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24.jpeg" ContentType="image/jpe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E20-4FE9-4943-8B13-135EAEB8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EC78-8682-43CF-8D36-FA611D37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AFA8BA-86CA-4932-AA16-05146CFF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A5CFD0-7CE6-4618-814B-A1F3C794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92F75-78C4-4339-8639-B12EAC63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FE9CAA-A179-4F5F-873E-B69EF73F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7AC34-886B-407F-BAC4-C85B58B7D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8346D7-01B3-47AD-B0ED-598EB451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6E099-894F-45C6-8FBB-EC951D90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A6981-D47E-41E6-BB10-D338B815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38C0F7-A6A1-4E90-B6B5-999BB4650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6BDC1-73FF-4E42-834F-C6F410D0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9746-DEB8-494F-99BE-51ADCC1C8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8D76C-A403-4CAA-9D15-4951955B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5B3D9-FDFD-486E-96B9-ABEB9970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6B325-5425-4C41-8DCB-11930C06F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E36EB-0333-4560-B93B-BB1D74F5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D8887-274F-4644-BABE-A85CB1AA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C39C02-4C12-40C9-B053-CE4DBC86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EEB68-2BFA-4F42-B6B3-247C574A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183F73-9578-4497-9629-F291D416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18CCE-D587-4D67-8440-61843A8C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87317F-0F23-415E-91B5-F5EF23E1C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66B-3D83-4635-B970-27DD43022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DD37F-4A34-4691-BA00-3A4CE8269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E5FE70-41BB-48AC-A16F-E98F5E447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ED968-66EC-44BD-AE9E-D05B7978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6EB88-8C17-45CC-B9A7-E16949A42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EFB07-748D-48A2-8A02-F11185E2A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B8CF1A-70E0-45D5-887C-1CF13E19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36BE2C-C26B-49D6-8655-63F08F3C9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EFB66-8645-4C83-95AC-783259FB5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D64A5-3518-4C06-998C-17461860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9BE639-9A16-400B-9DE5-2AAF0B98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B699-4DFC-49C0-8B96-CB034A3B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EAC0C0-D597-44B5-BD69-FB717A2D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F3C5D-5B18-4C7C-ACB9-10508583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1422C-A7B2-44DB-925F-3823F69F4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9C47A-F37F-4751-B672-8F1D28187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E0D924-7DFC-418C-B5E4-19F34B46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3A77CE-3F5A-4869-8403-7D82F9389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1C9D9C-BDA8-4067-BF04-125B23ED7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31B147-0C46-40C5-811D-69E404204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CDC29-E98F-41AF-B0FC-96EB799F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62BC7-A992-4981-8A92-4F226DF22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A412-09BB-485B-9928-31E3F693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2F9B4-275A-49DB-B4A8-D0561D92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DD6964-A92F-4462-8E9B-0047D427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74E6B-FDA3-4E5A-9BB7-CF5728A51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55561-4627-41FD-A45E-EDE580F74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AE03A-A2C0-4DDB-957C-A7055DC5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466A-8DD4-4D64-A258-9FBA2662F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6C9A8-4822-4438-85FF-7FD1F5CB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B1C5-AC00-4161-9C03-EAD3DDBF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D4F9-43AA-414C-BC23-11B1E0E3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071A-E951-4A82-A5C1-DADD2284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FDC-A410-4009-A124-268FE1905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35383-B71D-40FD-B94C-C11485BA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3ED2-957E-48E8-AA32-42514B438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AAEF-7B99-41E4-8B7D-4288588C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0ADA-D9DE-4687-B067-2E17D36EF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B540D-20C2-4C2B-8211-6208DF64E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A4D4A-BD9C-4CA2-9272-5A7ABC73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84A95-27CF-4D2C-AE3C-EE2652738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476FF-C5D6-4DC3-898E-B02BB0E74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67CB2-FC2C-4125-BC3F-AC851625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04EA8-F4C9-4907-97F8-CDEF7171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9C2-E822-4BF4-9B4B-CDF1AC0E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CB27C-38DF-46B2-8A19-A61983C5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00B69-89EF-4D1B-A58F-E4798D48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0E910-1829-4531-BA8D-604F270E2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D73DB-19BF-4BD2-915A-9B1218F0F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1EF3D-70BE-46E4-8F92-477C199EF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29FE1-BB3E-4A0E-878D-318AD5711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72181-0D48-4076-B7C3-CE6CB4C36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503D6F-2EF1-4647-9AEA-D7D51446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9E08A-B8D8-4B5B-80A2-51146662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C8B14-F544-4DAA-94C9-4A7A7991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A2A9-6B66-4A59-9AC7-40A4D273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82991-8BD3-41E2-A437-A50CC3F58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B139D-42C5-4D93-8E70-E29CFA579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862E60-DC7C-4C04-AEAA-6A56BFCE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6156-1208-4714-A8D9-759328ED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4E422-5AD7-46AC-82AF-6EEE2393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FD26B-0D96-4987-A4D2-507A0A36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4C6CF-5A7C-4895-A687-BB6E2F31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C3D21-4017-49CB-90D1-741BB5F58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A6E09B-0CD4-45E4-B64B-D8F6DEFA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CA583-DCB5-430F-BEAE-FD7E2F72A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98CF-5038-4023-8676-914535BB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28D02-16FE-42F5-8CDB-0906945A5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7F674-8B32-44BE-9409-92C02711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0B5B4E-A55F-422F-949E-14285E563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73B02-9442-419F-A296-57B5BED6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68B0A9-29BD-49E5-8BE3-5940D113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854B3-ECF2-421A-82FB-9D9F0E8F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8EFA8-3452-427D-A518-E4ADF7C8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8726E-C7CE-4F71-9B5E-01A4E933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2DF31-B633-490B-9EE7-9C04592A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ABC12-8EB0-4F57-A08A-2DF542C84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279-87DB-4634-8137-A7B3880D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F3B91-3275-47BB-83A7-2A48C2674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E9E58-294D-4B70-9287-D8F506B0E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7E42B-A9EA-4867-9834-9093B37C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D8F14-F9AB-40A2-A5D5-B23D742E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8CB4EA-CB67-4C0E-955E-3F7B3213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79F1BF-C193-4CA6-9FC0-BA722045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C253B-1CAC-4431-9B2C-C98B2D6D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DD933-31A8-4FE5-B07F-E997B8CD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BC9B7-AF3E-4700-A206-2BEB85C6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73663-233C-4F4A-9AC5-06B50D1C5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50BB-0A8A-4449-8F00-9184393F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EFC24D-E2AD-444A-9131-2030584E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ACBDF-F89B-4C34-8B8D-5610FF3D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1EC25E-0A1B-45D6-B4F2-8DC832DA6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0A383-B6C4-42FE-97CC-8D5705D10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DBFFB-B97F-4715-9608-A85FB157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5714E-5AB5-41C2-AD6E-F846B878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29B23-0A9A-424D-98FE-2FF465C1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9B82B-F802-48D4-9FF0-374B9861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56E72-6F8F-498D-B3C3-6AD8A17F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F2C85-3EE1-4DD8-976D-22FCD2CB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0AB-761A-4EF3-96D2-59B324231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056F0B-5EF7-44F1-8435-8D2B6B48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44A9E-0935-43B0-818F-46BE51EB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570DC-7CC3-4A56-9B54-4D8932B7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D7092-EA7C-493D-901A-2795FC2D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52B94-B6DA-4DB7-A247-53C9F9E3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5B045C-BB58-43B0-BC77-E850B54D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BDCF8-22EF-4020-9249-EFFBF724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AF3272-F5D3-40AD-B4B9-150E7A00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6F006-2649-458F-BB15-A11071FF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30DCDF-1C24-4A87-AE37-0975B213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E1B3-9ED2-4763-8AB2-0DCC334B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90D67-0389-46B7-9845-E98CCFFEF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3BE35-0AC0-4EB9-A015-9392BA74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8A5EE-9F37-4639-8533-A7A97911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A0342-93F0-4182-994F-5CB77417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3DD3E-10C0-4922-B920-77DE0645C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593C3-991C-49D4-8C6B-E449FEA2D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D8E0D-85A3-4A6C-8350-62A33BA23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50702A-F159-48B9-895C-F0BD5305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86822C-24C5-40B7-8D5E-67FBC8B5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FC472E-D06F-43DF-BD05-FA20C2D35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2D64-9D70-4327-907B-DF78FE1B0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82E6-CCF5-4B10-8B27-53A96C618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1403-DA68-47C9-B598-450EEA3E6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68FE-FA6B-4D8F-B63D-BC4428042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22A5-2908-4045-A91E-E658137BA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FE82-5BDC-4264-94B9-881A637481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8A8A8-173B-4B82-8179-28CEFD58F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606ED-70DC-4BF8-81B6-B2EEC80E1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0387-3FA9-4643-BDC2-10EB8CF99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CEE7-EB25-4F08-9621-84107CE9B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A8F4-13CE-4455-BF0C-2799E2619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28CE-E358-432E-86AA-43742AE52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29.xml"/><Relationship Id="rId7" Type="http://schemas.openxmlformats.org/officeDocument/2006/relationships/slide" Target="slide33.xml"/><Relationship Id="rId8" Type="http://schemas.openxmlformats.org/officeDocument/2006/relationships/slide" Target="slide22.xml"/><Relationship Id="rId9" Type="http://schemas.openxmlformats.org/officeDocument/2006/relationships/slide" Target="slide24.xml"/><Relationship Id="rId10" Type="http://schemas.openxmlformats.org/officeDocument/2006/relationships/slide" Target="slide26.xml"/><Relationship Id="rId11" Type="http://schemas.openxmlformats.org/officeDocument/2006/relationships/slide" Target="slide28.xml"/><Relationship Id="rId12" Type="http://schemas.openxmlformats.org/officeDocument/2006/relationships/slide" Target="slide33.xml"/><Relationship Id="rId13" Type="http://schemas.openxmlformats.org/officeDocument/2006/relationships/slide" Target="slide34.xml"/><Relationship Id="rId14" Type="http://schemas.openxmlformats.org/officeDocument/2006/relationships/slide" Target=""/><Relationship Id="rId15" Type="http://schemas.openxmlformats.org/officeDocument/2006/relationships/slide" Target="slide35.xml"/><Relationship Id="rId16" Type="http://schemas.openxmlformats.org/officeDocument/2006/relationships/slide" Target=""/><Relationship Id="rId17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slide" Target="slide5.xml"/><Relationship Id="rId4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hyperlink" Target="file:///tmp/home/.config/libreoffice/4/user/gallery/explode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explode.wav" TargetMode="External"/><Relationship Id="rId2" Type="http://schemas.openxmlformats.org/officeDocument/2006/relationships/hyperlink" Target="file:///tmp/home/.config/libreoffice/4/user/gallery/drumroll.wav" TargetMode="External"/><Relationship Id="rId3" Type="http://schemas.openxmlformats.org/officeDocument/2006/relationships/hyperlink" Target="file:///tmp/home/.config/libreoffice/4/user/gallery/explode.wav" TargetMode="External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иктори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Конституция и Я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6">
            <a:hlinkClick r:id="rId1" action="ppaction://hlinksldjump"/>
          </p:cNvPr>
          <p:cNvSpPr/>
          <p:nvPr/>
        </p:nvSpPr>
        <p:spPr>
          <a:xfrm>
            <a:off x="8026560" y="5918040"/>
            <a:ext cx="871200" cy="722520"/>
          </a:xfrm>
          <a:custGeom>
            <a:avLst/>
            <a:gdLst>
              <a:gd name="textAreaLeft" fmla="*/ 46800 w 871200"/>
              <a:gd name="textAreaRight" fmla="*/ 824400 w 871200"/>
              <a:gd name="textAreaTop" fmla="*/ 46800 h 722520"/>
              <a:gd name="textAreaBottom" fmla="*/ 675720 h 722520"/>
            </a:gdLst>
            <a:ahLst/>
            <a:rect l="textAreaLeft" t="textAreaTop" r="textAreaRight" b="textAreaBottom"/>
            <a:pathLst>
              <a:path w="26043" h="21600">
                <a:moveTo>
                  <a:pt x="0" y="0"/>
                </a:moveTo>
                <a:lnTo>
                  <a:pt x="26043" y="0"/>
                </a:lnTo>
                <a:lnTo>
                  <a:pt x="26043" y="21600"/>
                </a:lnTo>
                <a:lnTo>
                  <a:pt x="0" y="21600"/>
                </a:lnTo>
                <a:close/>
              </a:path>
              <a:path fill="lightenLess" w="26043" h="21600">
                <a:moveTo>
                  <a:pt x="0" y="0"/>
                </a:moveTo>
                <a:lnTo>
                  <a:pt x="26043" y="0"/>
                </a:lnTo>
                <a:lnTo>
                  <a:pt x="24643" y="1400"/>
                </a:lnTo>
                <a:lnTo>
                  <a:pt x="1400" y="1400"/>
                </a:lnTo>
                <a:close/>
              </a:path>
              <a:path fill="darken" w="26043" h="21600">
                <a:moveTo>
                  <a:pt x="26043" y="0"/>
                </a:moveTo>
                <a:lnTo>
                  <a:pt x="26043" y="21600"/>
                </a:lnTo>
                <a:lnTo>
                  <a:pt x="24643" y="20200"/>
                </a:lnTo>
                <a:lnTo>
                  <a:pt x="24643" y="1400"/>
                </a:lnTo>
                <a:close/>
              </a:path>
              <a:path fill="darkenLess" w="26043" h="21600">
                <a:moveTo>
                  <a:pt x="26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43" y="20200"/>
                </a:lnTo>
                <a:close/>
              </a:path>
              <a:path fill="lighten" w="26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43" h="21600">
                <a:moveTo>
                  <a:pt x="6015" y="3794"/>
                </a:moveTo>
                <a:lnTo>
                  <a:pt x="20028" y="10800"/>
                </a:lnTo>
                <a:lnTo>
                  <a:pt x="6015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2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595520" y="493560"/>
            <a:ext cx="68562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   </a:t>
            </a:r>
            <a:r>
              <a:rPr b="1" lang="ru-RU" sz="3200" spc="-1" strike="noStrike">
                <a:solidFill>
                  <a:srgbClr val="31459c"/>
                </a:solidFill>
                <a:latin typeface="Arial"/>
              </a:rPr>
              <a:t>Когда  была приня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Конституция 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6">
            <a:hlinkClick r:id="rId1"/>
          </p:cNvPr>
          <p:cNvSpPr/>
          <p:nvPr/>
        </p:nvSpPr>
        <p:spPr>
          <a:xfrm>
            <a:off x="1909800" y="2732040"/>
            <a:ext cx="1681200" cy="1042920"/>
          </a:xfrm>
          <a:custGeom>
            <a:avLst/>
            <a:gdLst>
              <a:gd name="textAreaLeft" fmla="*/ 67320 w 1681200"/>
              <a:gd name="textAreaRight" fmla="*/ 1613880 w 16812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4815" h="21600">
                <a:moveTo>
                  <a:pt x="0" y="0"/>
                </a:moveTo>
                <a:lnTo>
                  <a:pt x="34815" y="0"/>
                </a:lnTo>
                <a:lnTo>
                  <a:pt x="34815" y="21600"/>
                </a:lnTo>
                <a:lnTo>
                  <a:pt x="0" y="21600"/>
                </a:lnTo>
                <a:close/>
              </a:path>
              <a:path fill="lightenLess" w="34815" h="21600">
                <a:moveTo>
                  <a:pt x="0" y="0"/>
                </a:moveTo>
                <a:lnTo>
                  <a:pt x="34815" y="0"/>
                </a:lnTo>
                <a:lnTo>
                  <a:pt x="33415" y="1400"/>
                </a:lnTo>
                <a:lnTo>
                  <a:pt x="1400" y="1400"/>
                </a:lnTo>
                <a:close/>
              </a:path>
              <a:path fill="darken" w="34815" h="21600">
                <a:moveTo>
                  <a:pt x="34815" y="0"/>
                </a:moveTo>
                <a:lnTo>
                  <a:pt x="34815" y="21600"/>
                </a:lnTo>
                <a:lnTo>
                  <a:pt x="33415" y="20200"/>
                </a:lnTo>
                <a:lnTo>
                  <a:pt x="33415" y="1400"/>
                </a:lnTo>
                <a:close/>
              </a:path>
              <a:path fill="darkenLess" w="34815" h="21600">
                <a:moveTo>
                  <a:pt x="34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5" y="20200"/>
                </a:lnTo>
                <a:close/>
              </a:path>
              <a:path fill="lighten" w="34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1 ию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99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7">
            <a:hlinkClick r:id="rId2"/>
          </p:cNvPr>
          <p:cNvSpPr/>
          <p:nvPr/>
        </p:nvSpPr>
        <p:spPr>
          <a:xfrm>
            <a:off x="3706920" y="3943440"/>
            <a:ext cx="1719000" cy="1042920"/>
          </a:xfrm>
          <a:custGeom>
            <a:avLst/>
            <a:gdLst>
              <a:gd name="textAreaLeft" fmla="*/ 67320 w 1719000"/>
              <a:gd name="textAreaRight" fmla="*/ 1651680 w 1719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5598" h="21600">
                <a:moveTo>
                  <a:pt x="0" y="0"/>
                </a:moveTo>
                <a:lnTo>
                  <a:pt x="35598" y="0"/>
                </a:lnTo>
                <a:lnTo>
                  <a:pt x="35598" y="21600"/>
                </a:lnTo>
                <a:lnTo>
                  <a:pt x="0" y="21600"/>
                </a:lnTo>
                <a:close/>
              </a:path>
              <a:path fill="lightenLess" w="35598" h="21600">
                <a:moveTo>
                  <a:pt x="0" y="0"/>
                </a:moveTo>
                <a:lnTo>
                  <a:pt x="35598" y="0"/>
                </a:lnTo>
                <a:lnTo>
                  <a:pt x="34198" y="1400"/>
                </a:lnTo>
                <a:lnTo>
                  <a:pt x="1400" y="1400"/>
                </a:lnTo>
                <a:close/>
              </a:path>
              <a:path fill="darken" w="35598" h="21600">
                <a:moveTo>
                  <a:pt x="35598" y="0"/>
                </a:moveTo>
                <a:lnTo>
                  <a:pt x="35598" y="21600"/>
                </a:lnTo>
                <a:lnTo>
                  <a:pt x="34198" y="20200"/>
                </a:lnTo>
                <a:lnTo>
                  <a:pt x="34198" y="1400"/>
                </a:lnTo>
                <a:close/>
              </a:path>
              <a:path fill="darkenLess" w="35598" h="21600">
                <a:moveTo>
                  <a:pt x="355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8" y="20200"/>
                </a:lnTo>
                <a:close/>
              </a:path>
              <a:path fill="lighten" w="355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дека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99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8">
            <a:hlinkClick r:id="rId3"/>
          </p:cNvPr>
          <p:cNvSpPr/>
          <p:nvPr/>
        </p:nvSpPr>
        <p:spPr>
          <a:xfrm>
            <a:off x="6026040" y="4929120"/>
            <a:ext cx="1710000" cy="1042920"/>
          </a:xfrm>
          <a:custGeom>
            <a:avLst/>
            <a:gdLst>
              <a:gd name="textAreaLeft" fmla="*/ 67320 w 1710000"/>
              <a:gd name="textAreaRight" fmla="*/ 1642680 w 171000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35411" h="21600">
                <a:moveTo>
                  <a:pt x="0" y="0"/>
                </a:moveTo>
                <a:lnTo>
                  <a:pt x="35411" y="0"/>
                </a:lnTo>
                <a:lnTo>
                  <a:pt x="35411" y="21600"/>
                </a:lnTo>
                <a:lnTo>
                  <a:pt x="0" y="21600"/>
                </a:lnTo>
                <a:close/>
              </a:path>
              <a:path fill="lightenLess" w="35411" h="21600">
                <a:moveTo>
                  <a:pt x="0" y="0"/>
                </a:moveTo>
                <a:lnTo>
                  <a:pt x="35411" y="0"/>
                </a:lnTo>
                <a:lnTo>
                  <a:pt x="34011" y="1400"/>
                </a:lnTo>
                <a:lnTo>
                  <a:pt x="1400" y="1400"/>
                </a:lnTo>
                <a:close/>
              </a:path>
              <a:path fill="darken" w="35411" h="21600">
                <a:moveTo>
                  <a:pt x="35411" y="0"/>
                </a:moveTo>
                <a:lnTo>
                  <a:pt x="35411" y="21600"/>
                </a:lnTo>
                <a:lnTo>
                  <a:pt x="34011" y="20200"/>
                </a:lnTo>
                <a:lnTo>
                  <a:pt x="34011" y="1400"/>
                </a:lnTo>
                <a:close/>
              </a:path>
              <a:path fill="darkenLess" w="35411" h="21600">
                <a:moveTo>
                  <a:pt x="3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011" y="20200"/>
                </a:lnTo>
                <a:close/>
              </a:path>
              <a:path fill="lighten" w="3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 декабр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03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6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4"/>
          <p:cNvSpPr/>
          <p:nvPr/>
        </p:nvSpPr>
        <p:spPr>
          <a:xfrm>
            <a:off x="946080" y="922320"/>
            <a:ext cx="984888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      </a:t>
            </a: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Конститу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была приня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           </a:t>
            </a: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12 декабр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             </a:t>
            </a:r>
            <a:r>
              <a:rPr b="1" lang="ru-RU" sz="4800" spc="-1" strike="noStrike">
                <a:solidFill>
                  <a:srgbClr val="31459c"/>
                </a:solidFill>
                <a:latin typeface="Arial"/>
              </a:rPr>
              <a:t>1993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Нарушили!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алёнушка.avi" descr=""/>
          <p:cNvPicPr/>
          <p:nvPr/>
        </p:nvPicPr>
        <p:blipFill>
          <a:blip r:embed="rId1"/>
          <a:stretch/>
        </p:blipFill>
        <p:spPr>
          <a:xfrm>
            <a:off x="647640" y="306360"/>
            <a:ext cx="7391520" cy="5913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33520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560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560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5" dur="1" fill="hold"/>
                                        <p:tgtEl>
                                          <p:spTgt spid="5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1062000" y="325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2190600" y="1527120"/>
            <a:ext cx="537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атья 22  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987480" y="2666880"/>
            <a:ext cx="82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ждый имеет право на свободу и личную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прикосновен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ест, заключение под стражу и содерж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 стражей возможно только по решени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у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золушка.avi" descr=""/>
          <p:cNvPicPr/>
          <p:nvPr/>
        </p:nvPicPr>
        <p:blipFill>
          <a:blip r:embed="rId1"/>
          <a:stretch/>
        </p:blipFill>
        <p:spPr>
          <a:xfrm>
            <a:off x="809640" y="782640"/>
            <a:ext cx="7286760" cy="5829120"/>
          </a:xfrm>
          <a:prstGeom prst="rect">
            <a:avLst/>
          </a:prstGeom>
          <a:ln w="0">
            <a:noFill/>
          </a:ln>
        </p:spPr>
      </p:pic>
      <p:sp>
        <p:nvSpPr>
          <p:cNvPr id="565" name="TextBox 3"/>
          <p:cNvSpPr/>
          <p:nvPr/>
        </p:nvSpPr>
        <p:spPr>
          <a:xfrm>
            <a:off x="1566720" y="5864400"/>
            <a:ext cx="502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М/ф «Золушка»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67120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" restart="whenNotActive" nodeType="interactiveSeq" fill="hold">
                <p:stCondLst>
                  <p:cond evt="onClick">
                    <p:tgtEl>
                      <p:spTgt spid="564"/>
                    </p:tgtEl>
                  </p:cond>
                </p:stCondLst>
                <p:childTnLst>
                  <p:par>
                    <p:cTn id="153" nodeType="clickEffect" fill="hold">
                      <p:stCondLst>
                        <p:cond evt="onClick">
                          <p:tgtEl>
                            <p:spTgt spid="564"/>
                          </p:tgtEl>
                        </p:cond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6" dur="1" fill="hold"/>
                                        <p:tgtEl>
                                          <p:spTgt spid="5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1019160" y="774720"/>
            <a:ext cx="7488360" cy="574200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828800" y="1527120"/>
            <a:ext cx="573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Статья </a:t>
            </a: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37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"/>
          <p:cNvSpPr/>
          <p:nvPr/>
        </p:nvSpPr>
        <p:spPr>
          <a:xfrm>
            <a:off x="1219320" y="23400"/>
            <a:ext cx="7010280" cy="46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руд свободен. Каждый имеет право свободно распоряжаться своими способност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труду, выбирать род деятельности и професс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инудительный труд запрещ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маша и медведь.mp4" descr=""/>
          <p:cNvPicPr/>
          <p:nvPr/>
        </p:nvPicPr>
        <p:blipFill>
          <a:blip r:embed="rId1"/>
          <a:stretch/>
        </p:blipFill>
        <p:spPr>
          <a:xfrm>
            <a:off x="492120" y="469800"/>
            <a:ext cx="7846920" cy="58435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2" dur="31360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569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569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7" dur="1" fill="hold"/>
                                        <p:tgtEl>
                                          <p:spTgt spid="5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874800" y="334800"/>
            <a:ext cx="7488000" cy="628524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176560" y="1049400"/>
            <a:ext cx="55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атья 25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177920" y="2046240"/>
            <a:ext cx="71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лище неприкосновенно. Никто не вправе проникать в жилище против воли проживающих в нём ли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аче как в случаях, установленных федеральным законом или на основании судебного реш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6"/>
          <p:cNvSpPr/>
          <p:nvPr/>
        </p:nvSpPr>
        <p:spPr>
          <a:xfrm>
            <a:off x="7858080" y="5695920"/>
            <a:ext cx="852480" cy="814320"/>
          </a:xfrm>
          <a:custGeom>
            <a:avLst/>
            <a:gdLst>
              <a:gd name="textAreaLeft" fmla="*/ 52560 w 852480"/>
              <a:gd name="textAreaRight" fmla="*/ 799920 w 85248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2612" h="21600">
                <a:moveTo>
                  <a:pt x="0" y="0"/>
                </a:moveTo>
                <a:lnTo>
                  <a:pt x="22612" y="0"/>
                </a:lnTo>
                <a:lnTo>
                  <a:pt x="22612" y="21600"/>
                </a:lnTo>
                <a:lnTo>
                  <a:pt x="0" y="21600"/>
                </a:lnTo>
                <a:close/>
              </a:path>
              <a:path fill="lightenLess" w="22612" h="21600">
                <a:moveTo>
                  <a:pt x="0" y="0"/>
                </a:moveTo>
                <a:lnTo>
                  <a:pt x="22612" y="0"/>
                </a:lnTo>
                <a:lnTo>
                  <a:pt x="21212" y="1400"/>
                </a:lnTo>
                <a:lnTo>
                  <a:pt x="1400" y="1400"/>
                </a:lnTo>
                <a:close/>
              </a:path>
              <a:path fill="darken" w="22612" h="21600">
                <a:moveTo>
                  <a:pt x="22612" y="0"/>
                </a:moveTo>
                <a:lnTo>
                  <a:pt x="22612" y="21600"/>
                </a:lnTo>
                <a:lnTo>
                  <a:pt x="21212" y="20200"/>
                </a:lnTo>
                <a:lnTo>
                  <a:pt x="21212" y="1400"/>
                </a:lnTo>
                <a:close/>
              </a:path>
              <a:path fill="darkenLess" w="22612" h="21600">
                <a:moveTo>
                  <a:pt x="226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12" y="20200"/>
                </a:lnTo>
                <a:close/>
              </a:path>
              <a:path fill="lighten" w="226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612" h="21600">
                <a:moveTo>
                  <a:pt x="4299" y="7493"/>
                </a:moveTo>
                <a:lnTo>
                  <a:pt x="7807" y="7493"/>
                </a:lnTo>
                <a:lnTo>
                  <a:pt x="7807" y="12828"/>
                </a:lnTo>
                <a:cubicBezTo>
                  <a:pt x="7807" y="13751"/>
                  <a:pt x="8608" y="14482"/>
                  <a:pt x="9643" y="14482"/>
                </a:cubicBezTo>
                <a:lnTo>
                  <a:pt x="11306" y="14482"/>
                </a:lnTo>
                <a:cubicBezTo>
                  <a:pt x="12342" y="14482"/>
                  <a:pt x="13142" y="13751"/>
                  <a:pt x="13142" y="12828"/>
                </a:cubicBezTo>
                <a:lnTo>
                  <a:pt x="13142" y="7493"/>
                </a:lnTo>
                <a:lnTo>
                  <a:pt x="11306" y="7493"/>
                </a:lnTo>
                <a:lnTo>
                  <a:pt x="14813" y="3985"/>
                </a:lnTo>
                <a:lnTo>
                  <a:pt x="18486" y="7493"/>
                </a:lnTo>
                <a:lnTo>
                  <a:pt x="16650" y="7493"/>
                </a:lnTo>
                <a:lnTo>
                  <a:pt x="16650" y="12828"/>
                </a:lnTo>
                <a:cubicBezTo>
                  <a:pt x="16650" y="15596"/>
                  <a:pt x="14074" y="18155"/>
                  <a:pt x="11306" y="18155"/>
                </a:cubicBezTo>
                <a:lnTo>
                  <a:pt x="9643" y="18155"/>
                </a:lnTo>
                <a:cubicBezTo>
                  <a:pt x="6876" y="18155"/>
                  <a:pt x="4299" y="15596"/>
                  <a:pt x="429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иванушка.avi" descr=""/>
          <p:cNvPicPr/>
          <p:nvPr/>
        </p:nvPicPr>
        <p:blipFill>
          <a:blip r:embed="rId1"/>
          <a:stretch/>
        </p:blipFill>
        <p:spPr>
          <a:xfrm>
            <a:off x="905040" y="465120"/>
            <a:ext cx="7372080" cy="5897520"/>
          </a:xfrm>
          <a:prstGeom prst="rect">
            <a:avLst/>
          </a:prstGeom>
          <a:ln w="0">
            <a:noFill/>
          </a:ln>
        </p:spPr>
      </p:pic>
      <p:sp>
        <p:nvSpPr>
          <p:cNvPr id="575" name="AutoShape 5">
            <a:hlinkClick r:id="rId2"/>
          </p:cNvPr>
          <p:cNvSpPr/>
          <p:nvPr/>
        </p:nvSpPr>
        <p:spPr>
          <a:xfrm>
            <a:off x="8358120" y="6019920"/>
            <a:ext cx="785880" cy="699840"/>
          </a:xfrm>
          <a:custGeom>
            <a:avLst/>
            <a:gdLst>
              <a:gd name="textAreaLeft" fmla="*/ 45360 w 785880"/>
              <a:gd name="textAreaRight" fmla="*/ 740520 w 785880"/>
              <a:gd name="textAreaTop" fmla="*/ 45360 h 699840"/>
              <a:gd name="textAreaBottom" fmla="*/ 654480 h 699840"/>
            </a:gdLst>
            <a:ahLst/>
            <a:rect l="textAreaLeft" t="textAreaTop" r="textAreaRight" b="textAreaBottom"/>
            <a:pathLst>
              <a:path w="24254" h="21600">
                <a:moveTo>
                  <a:pt x="0" y="0"/>
                </a:moveTo>
                <a:lnTo>
                  <a:pt x="24254" y="0"/>
                </a:lnTo>
                <a:lnTo>
                  <a:pt x="24254" y="21600"/>
                </a:lnTo>
                <a:lnTo>
                  <a:pt x="0" y="21600"/>
                </a:lnTo>
                <a:close/>
              </a:path>
              <a:path fill="lightenLess" w="24254" h="21600">
                <a:moveTo>
                  <a:pt x="0" y="0"/>
                </a:moveTo>
                <a:lnTo>
                  <a:pt x="24254" y="0"/>
                </a:lnTo>
                <a:lnTo>
                  <a:pt x="22854" y="1400"/>
                </a:lnTo>
                <a:lnTo>
                  <a:pt x="1400" y="1400"/>
                </a:lnTo>
                <a:close/>
              </a:path>
              <a:path fill="darken" w="24254" h="21600">
                <a:moveTo>
                  <a:pt x="24254" y="0"/>
                </a:moveTo>
                <a:lnTo>
                  <a:pt x="24254" y="21600"/>
                </a:lnTo>
                <a:lnTo>
                  <a:pt x="22854" y="20200"/>
                </a:lnTo>
                <a:lnTo>
                  <a:pt x="22854" y="1400"/>
                </a:lnTo>
                <a:close/>
              </a:path>
              <a:path fill="darkenLess" w="24254" h="21600">
                <a:moveTo>
                  <a:pt x="24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54" y="20200"/>
                </a:lnTo>
                <a:close/>
              </a:path>
              <a:path fill="lighten" w="24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54" h="21600">
                <a:moveTo>
                  <a:pt x="5121" y="3794"/>
                </a:moveTo>
                <a:lnTo>
                  <a:pt x="19134" y="10800"/>
                </a:lnTo>
                <a:lnTo>
                  <a:pt x="5121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3" dur="51360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" restart="whenNotActive" nodeType="interactiveSeq" fill="hold">
                <p:stCondLst>
                  <p:cond evt="onClick">
                    <p:tgtEl>
                      <p:spTgt spid="574"/>
                    </p:tgtEl>
                  </p:cond>
                </p:stCondLst>
                <p:childTnLst>
                  <p:par>
                    <p:cTn id="175" nodeType="clickEffect" fill="hold">
                      <p:stCondLst>
                        <p:cond evt="onClick">
                          <p:tgtEl>
                            <p:spTgt spid="574"/>
                          </p:tgtEl>
                        </p:cond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8" dur="1" fill="hold"/>
                                        <p:tgtEl>
                                          <p:spTgt spid="5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102"/>
          <p:cNvSpPr/>
          <p:nvPr/>
        </p:nvSpPr>
        <p:spPr>
          <a:xfrm>
            <a:off x="871560" y="297000"/>
            <a:ext cx="74595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1306440" y="2647800"/>
          <a:ext cx="5388120" cy="3133800"/>
        </p:xfrm>
        <a:graphic>
          <a:graphicData uri="http://schemas.openxmlformats.org/drawingml/2006/table">
            <a:tbl>
              <a:tblPr/>
              <a:tblGrid>
                <a:gridCol w="1719360"/>
                <a:gridCol w="936720"/>
                <a:gridCol w="919080"/>
                <a:gridCol w="825480"/>
                <a:gridCol w="98748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   </a:t>
                      </a: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Прост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    </a:t>
                      </a: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вопрос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Нарушили 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Обязан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212f69"/>
                          </a:solidFill>
                          <a:latin typeface="Arial"/>
                        </a:rPr>
                        <a:t>Символ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AutoShape 69">
            <a:hlinkClick r:id="rId1" action="ppaction://hlinksldjump"/>
          </p:cNvPr>
          <p:cNvSpPr/>
          <p:nvPr/>
        </p:nvSpPr>
        <p:spPr>
          <a:xfrm>
            <a:off x="3156120" y="2658960"/>
            <a:ext cx="652320" cy="642960"/>
          </a:xfrm>
          <a:custGeom>
            <a:avLst/>
            <a:gdLst>
              <a:gd name="textAreaLeft" fmla="*/ 41400 w 652320"/>
              <a:gd name="textAreaRight" fmla="*/ 610920 w 652320"/>
              <a:gd name="textAreaTop" fmla="*/ 41400 h 642960"/>
              <a:gd name="textAreaBottom" fmla="*/ 601560 h 642960"/>
            </a:gdLst>
            <a:ahLst/>
            <a:rect l="textAreaLeft" t="textAreaTop" r="textAreaRight" b="textAreaBottom"/>
            <a:pathLst>
              <a:path w="21914" h="21600">
                <a:moveTo>
                  <a:pt x="0" y="0"/>
                </a:moveTo>
                <a:lnTo>
                  <a:pt x="21914" y="0"/>
                </a:lnTo>
                <a:lnTo>
                  <a:pt x="21914" y="21600"/>
                </a:lnTo>
                <a:lnTo>
                  <a:pt x="0" y="21600"/>
                </a:lnTo>
                <a:close/>
              </a:path>
              <a:path fill="lightenLess" w="21914" h="21600">
                <a:moveTo>
                  <a:pt x="0" y="0"/>
                </a:moveTo>
                <a:lnTo>
                  <a:pt x="21914" y="0"/>
                </a:lnTo>
                <a:lnTo>
                  <a:pt x="20514" y="1400"/>
                </a:lnTo>
                <a:lnTo>
                  <a:pt x="1400" y="1400"/>
                </a:lnTo>
                <a:close/>
              </a:path>
              <a:path fill="darken" w="21914" h="21600">
                <a:moveTo>
                  <a:pt x="21914" y="0"/>
                </a:moveTo>
                <a:lnTo>
                  <a:pt x="21914" y="21600"/>
                </a:lnTo>
                <a:lnTo>
                  <a:pt x="20514" y="20200"/>
                </a:lnTo>
                <a:lnTo>
                  <a:pt x="20514" y="1400"/>
                </a:lnTo>
                <a:close/>
              </a:path>
              <a:path fill="darkenLess" w="21914" h="21600">
                <a:moveTo>
                  <a:pt x="219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14" y="20200"/>
                </a:lnTo>
                <a:close/>
              </a:path>
              <a:path fill="lighten" w="219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71">
            <a:hlinkClick r:id="rId2" action="ppaction://hlinksldjump"/>
          </p:cNvPr>
          <p:cNvSpPr/>
          <p:nvPr/>
        </p:nvSpPr>
        <p:spPr>
          <a:xfrm>
            <a:off x="4086360" y="2678040"/>
            <a:ext cx="699840" cy="604800"/>
          </a:xfrm>
          <a:custGeom>
            <a:avLst/>
            <a:gdLst>
              <a:gd name="textAreaLeft" fmla="*/ 38880 w 699840"/>
              <a:gd name="textAreaRight" fmla="*/ 660960 w 69984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4992" h="21600">
                <a:moveTo>
                  <a:pt x="0" y="0"/>
                </a:moveTo>
                <a:lnTo>
                  <a:pt x="24992" y="0"/>
                </a:lnTo>
                <a:lnTo>
                  <a:pt x="24992" y="21600"/>
                </a:lnTo>
                <a:lnTo>
                  <a:pt x="0" y="21600"/>
                </a:lnTo>
                <a:close/>
              </a:path>
              <a:path fill="lightenLess" w="24992" h="21600">
                <a:moveTo>
                  <a:pt x="0" y="0"/>
                </a:moveTo>
                <a:lnTo>
                  <a:pt x="24992" y="0"/>
                </a:lnTo>
                <a:lnTo>
                  <a:pt x="23592" y="1400"/>
                </a:lnTo>
                <a:lnTo>
                  <a:pt x="1400" y="1400"/>
                </a:lnTo>
                <a:close/>
              </a:path>
              <a:path fill="darken" w="24992" h="21600">
                <a:moveTo>
                  <a:pt x="24992" y="0"/>
                </a:moveTo>
                <a:lnTo>
                  <a:pt x="24992" y="21600"/>
                </a:lnTo>
                <a:lnTo>
                  <a:pt x="23592" y="20200"/>
                </a:lnTo>
                <a:lnTo>
                  <a:pt x="23592" y="1400"/>
                </a:lnTo>
                <a:close/>
              </a:path>
              <a:path fill="darkenLess" w="24992" h="21600">
                <a:moveTo>
                  <a:pt x="24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92" y="20200"/>
                </a:lnTo>
                <a:close/>
              </a:path>
              <a:path fill="lighten" w="24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72">
            <a:hlinkClick r:id="rId3" action="ppaction://hlinksldjump"/>
          </p:cNvPr>
          <p:cNvSpPr/>
          <p:nvPr/>
        </p:nvSpPr>
        <p:spPr>
          <a:xfrm>
            <a:off x="3152880" y="3429000"/>
            <a:ext cx="718920" cy="623880"/>
          </a:xfrm>
          <a:custGeom>
            <a:avLst/>
            <a:gdLst>
              <a:gd name="textAreaLeft" fmla="*/ 40320 w 718920"/>
              <a:gd name="textAreaRight" fmla="*/ 678600 w 718920"/>
              <a:gd name="textAreaTop" fmla="*/ 40320 h 623880"/>
              <a:gd name="textAreaBottom" fmla="*/ 583560 h 623880"/>
            </a:gdLst>
            <a:ahLst/>
            <a:rect l="textAreaLeft" t="textAreaTop" r="textAreaRight" b="textAreaBottom"/>
            <a:pathLst>
              <a:path w="24889" h="21600">
                <a:moveTo>
                  <a:pt x="0" y="0"/>
                </a:moveTo>
                <a:lnTo>
                  <a:pt x="24889" y="0"/>
                </a:lnTo>
                <a:lnTo>
                  <a:pt x="24889" y="21600"/>
                </a:lnTo>
                <a:lnTo>
                  <a:pt x="0" y="21600"/>
                </a:lnTo>
                <a:close/>
              </a:path>
              <a:path fill="lightenLess" w="24889" h="21600">
                <a:moveTo>
                  <a:pt x="0" y="0"/>
                </a:moveTo>
                <a:lnTo>
                  <a:pt x="24889" y="0"/>
                </a:lnTo>
                <a:lnTo>
                  <a:pt x="23489" y="1400"/>
                </a:lnTo>
                <a:lnTo>
                  <a:pt x="1400" y="1400"/>
                </a:lnTo>
                <a:close/>
              </a:path>
              <a:path fill="darken" w="24889" h="21600">
                <a:moveTo>
                  <a:pt x="24889" y="0"/>
                </a:moveTo>
                <a:lnTo>
                  <a:pt x="24889" y="21600"/>
                </a:lnTo>
                <a:lnTo>
                  <a:pt x="23489" y="20200"/>
                </a:lnTo>
                <a:lnTo>
                  <a:pt x="23489" y="1400"/>
                </a:lnTo>
                <a:close/>
              </a:path>
              <a:path fill="darkenLess" w="24889" h="21600">
                <a:moveTo>
                  <a:pt x="24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89" y="20200"/>
                </a:lnTo>
                <a:close/>
              </a:path>
              <a:path fill="lighten" w="24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74">
            <a:hlinkClick r:id="rId4" action="ppaction://hlinksldjump"/>
          </p:cNvPr>
          <p:cNvSpPr/>
          <p:nvPr/>
        </p:nvSpPr>
        <p:spPr>
          <a:xfrm>
            <a:off x="4057560" y="3429000"/>
            <a:ext cx="709560" cy="604800"/>
          </a:xfrm>
          <a:custGeom>
            <a:avLst/>
            <a:gdLst>
              <a:gd name="textAreaLeft" fmla="*/ 38880 w 709560"/>
              <a:gd name="textAreaRight" fmla="*/ 670680 w 70956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5339" h="21600">
                <a:moveTo>
                  <a:pt x="0" y="0"/>
                </a:moveTo>
                <a:lnTo>
                  <a:pt x="25339" y="0"/>
                </a:lnTo>
                <a:lnTo>
                  <a:pt x="25339" y="21600"/>
                </a:lnTo>
                <a:lnTo>
                  <a:pt x="0" y="21600"/>
                </a:lnTo>
                <a:close/>
              </a:path>
              <a:path fill="lightenLess" w="25339" h="21600">
                <a:moveTo>
                  <a:pt x="0" y="0"/>
                </a:moveTo>
                <a:lnTo>
                  <a:pt x="25339" y="0"/>
                </a:lnTo>
                <a:lnTo>
                  <a:pt x="23939" y="1400"/>
                </a:lnTo>
                <a:lnTo>
                  <a:pt x="1400" y="1400"/>
                </a:lnTo>
                <a:close/>
              </a:path>
              <a:path fill="darken" w="25339" h="21600">
                <a:moveTo>
                  <a:pt x="25339" y="0"/>
                </a:moveTo>
                <a:lnTo>
                  <a:pt x="25339" y="21600"/>
                </a:lnTo>
                <a:lnTo>
                  <a:pt x="23939" y="20200"/>
                </a:lnTo>
                <a:lnTo>
                  <a:pt x="23939" y="1400"/>
                </a:lnTo>
                <a:close/>
              </a:path>
              <a:path fill="darkenLess" w="25339" h="21600">
                <a:moveTo>
                  <a:pt x="25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39" y="20200"/>
                </a:lnTo>
                <a:close/>
              </a:path>
              <a:path fill="lighten" w="25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6">
            <a:hlinkClick r:id="rId5" action="ppaction://hlinksldjump"/>
          </p:cNvPr>
          <p:cNvSpPr/>
          <p:nvPr/>
        </p:nvSpPr>
        <p:spPr>
          <a:xfrm>
            <a:off x="4978440" y="3395520"/>
            <a:ext cx="679320" cy="673200"/>
          </a:xfrm>
          <a:custGeom>
            <a:avLst/>
            <a:gdLst>
              <a:gd name="textAreaLeft" fmla="*/ 43560 w 679320"/>
              <a:gd name="textAreaRight" fmla="*/ 635760 w 679320"/>
              <a:gd name="textAreaTop" fmla="*/ 43560 h 673200"/>
              <a:gd name="textAreaBottom" fmla="*/ 629640 h 673200"/>
            </a:gdLst>
            <a:ahLst/>
            <a:rect l="textAreaLeft" t="textAreaTop" r="textAreaRight" b="textAreaBottom"/>
            <a:pathLst>
              <a:path w="21796" h="21600">
                <a:moveTo>
                  <a:pt x="0" y="0"/>
                </a:moveTo>
                <a:lnTo>
                  <a:pt x="21796" y="0"/>
                </a:lnTo>
                <a:lnTo>
                  <a:pt x="21796" y="21600"/>
                </a:lnTo>
                <a:lnTo>
                  <a:pt x="0" y="21600"/>
                </a:lnTo>
                <a:close/>
              </a:path>
              <a:path fill="lightenLess" w="21796" h="21600">
                <a:moveTo>
                  <a:pt x="0" y="0"/>
                </a:moveTo>
                <a:lnTo>
                  <a:pt x="21796" y="0"/>
                </a:lnTo>
                <a:lnTo>
                  <a:pt x="20396" y="1400"/>
                </a:lnTo>
                <a:lnTo>
                  <a:pt x="1400" y="1400"/>
                </a:lnTo>
                <a:close/>
              </a:path>
              <a:path fill="darken" w="21796" h="21600">
                <a:moveTo>
                  <a:pt x="21796" y="0"/>
                </a:moveTo>
                <a:lnTo>
                  <a:pt x="21796" y="21600"/>
                </a:lnTo>
                <a:lnTo>
                  <a:pt x="20396" y="20200"/>
                </a:lnTo>
                <a:lnTo>
                  <a:pt x="20396" y="1400"/>
                </a:lnTo>
                <a:close/>
              </a:path>
              <a:path fill="darkenLess" w="21796" h="21600">
                <a:moveTo>
                  <a:pt x="21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96" y="20200"/>
                </a:lnTo>
                <a:close/>
              </a:path>
              <a:path fill="lighten" w="21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78">
            <a:hlinkClick r:id="rId6" action="ppaction://hlinksldjump"/>
          </p:cNvPr>
          <p:cNvSpPr/>
          <p:nvPr/>
        </p:nvSpPr>
        <p:spPr>
          <a:xfrm>
            <a:off x="5848200" y="3433680"/>
            <a:ext cx="652680" cy="644760"/>
          </a:xfrm>
          <a:custGeom>
            <a:avLst/>
            <a:gdLst>
              <a:gd name="textAreaLeft" fmla="*/ 41760 w 652680"/>
              <a:gd name="textAreaRight" fmla="*/ 610920 w 652680"/>
              <a:gd name="textAreaTop" fmla="*/ 41760 h 644760"/>
              <a:gd name="textAreaBottom" fmla="*/ 603000 h 644760"/>
            </a:gdLst>
            <a:ahLst/>
            <a:rect l="textAreaLeft" t="textAreaTop" r="textAreaRight" b="textAreaBottom"/>
            <a:pathLst>
              <a:path w="21865" h="21600">
                <a:moveTo>
                  <a:pt x="0" y="0"/>
                </a:moveTo>
                <a:lnTo>
                  <a:pt x="21865" y="0"/>
                </a:lnTo>
                <a:lnTo>
                  <a:pt x="21865" y="21600"/>
                </a:lnTo>
                <a:lnTo>
                  <a:pt x="0" y="21600"/>
                </a:lnTo>
                <a:close/>
              </a:path>
              <a:path fill="lightenLess" w="21865" h="21600">
                <a:moveTo>
                  <a:pt x="0" y="0"/>
                </a:moveTo>
                <a:lnTo>
                  <a:pt x="21865" y="0"/>
                </a:lnTo>
                <a:lnTo>
                  <a:pt x="20465" y="1400"/>
                </a:lnTo>
                <a:lnTo>
                  <a:pt x="1400" y="1400"/>
                </a:lnTo>
                <a:close/>
              </a:path>
              <a:path fill="darken" w="21865" h="21600">
                <a:moveTo>
                  <a:pt x="21865" y="0"/>
                </a:moveTo>
                <a:lnTo>
                  <a:pt x="21865" y="21600"/>
                </a:lnTo>
                <a:lnTo>
                  <a:pt x="20465" y="20200"/>
                </a:lnTo>
                <a:lnTo>
                  <a:pt x="20465" y="1400"/>
                </a:lnTo>
                <a:close/>
              </a:path>
              <a:path fill="darkenLess" w="21865" h="21600">
                <a:moveTo>
                  <a:pt x="218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65" y="20200"/>
                </a:lnTo>
                <a:close/>
              </a:path>
              <a:path fill="lighten" w="218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81">
            <a:hlinkClick r:id="rId7" action="ppaction://hlinksldjump"/>
          </p:cNvPr>
          <p:cNvSpPr/>
          <p:nvPr/>
        </p:nvSpPr>
        <p:spPr>
          <a:xfrm>
            <a:off x="4948200" y="2649600"/>
            <a:ext cx="690480" cy="604800"/>
          </a:xfrm>
          <a:custGeom>
            <a:avLst/>
            <a:gdLst>
              <a:gd name="textAreaLeft" fmla="*/ 38880 w 690480"/>
              <a:gd name="textAreaRight" fmla="*/ 651600 w 690480"/>
              <a:gd name="textAreaTop" fmla="*/ 38880 h 604800"/>
              <a:gd name="textAreaBottom" fmla="*/ 565920 h 604800"/>
            </a:gdLst>
            <a:ahLst/>
            <a:rect l="textAreaLeft" t="textAreaTop" r="textAreaRight" b="textAreaBottom"/>
            <a:pathLst>
              <a:path w="24658" h="21600">
                <a:moveTo>
                  <a:pt x="0" y="0"/>
                </a:moveTo>
                <a:lnTo>
                  <a:pt x="24658" y="0"/>
                </a:lnTo>
                <a:lnTo>
                  <a:pt x="24658" y="21600"/>
                </a:lnTo>
                <a:lnTo>
                  <a:pt x="0" y="21600"/>
                </a:lnTo>
                <a:close/>
              </a:path>
              <a:path fill="lightenLess" w="24658" h="21600">
                <a:moveTo>
                  <a:pt x="0" y="0"/>
                </a:moveTo>
                <a:lnTo>
                  <a:pt x="24658" y="0"/>
                </a:lnTo>
                <a:lnTo>
                  <a:pt x="23258" y="1400"/>
                </a:lnTo>
                <a:lnTo>
                  <a:pt x="1400" y="1400"/>
                </a:lnTo>
                <a:close/>
              </a:path>
              <a:path fill="darken" w="24658" h="21600">
                <a:moveTo>
                  <a:pt x="24658" y="0"/>
                </a:moveTo>
                <a:lnTo>
                  <a:pt x="24658" y="21600"/>
                </a:lnTo>
                <a:lnTo>
                  <a:pt x="23258" y="20200"/>
                </a:lnTo>
                <a:lnTo>
                  <a:pt x="23258" y="1400"/>
                </a:lnTo>
                <a:close/>
              </a:path>
              <a:path fill="darkenLess" w="24658" h="21600">
                <a:moveTo>
                  <a:pt x="246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58" y="20200"/>
                </a:lnTo>
                <a:close/>
              </a:path>
              <a:path fill="lighten" w="246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84">
            <a:hlinkClick r:id="rId8" action="ppaction://hlinksldjump"/>
          </p:cNvPr>
          <p:cNvSpPr/>
          <p:nvPr/>
        </p:nvSpPr>
        <p:spPr>
          <a:xfrm>
            <a:off x="3176640" y="4226040"/>
            <a:ext cx="700200" cy="662040"/>
          </a:xfrm>
          <a:custGeom>
            <a:avLst/>
            <a:gdLst>
              <a:gd name="textAreaLeft" fmla="*/ 42840 w 700200"/>
              <a:gd name="textAreaRight" fmla="*/ 657360 w 7002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2844" h="21600">
                <a:moveTo>
                  <a:pt x="0" y="0"/>
                </a:moveTo>
                <a:lnTo>
                  <a:pt x="22844" y="0"/>
                </a:lnTo>
                <a:lnTo>
                  <a:pt x="22844" y="21600"/>
                </a:lnTo>
                <a:lnTo>
                  <a:pt x="0" y="21600"/>
                </a:lnTo>
                <a:close/>
              </a:path>
              <a:path fill="lightenLess" w="22844" h="21600">
                <a:moveTo>
                  <a:pt x="0" y="0"/>
                </a:moveTo>
                <a:lnTo>
                  <a:pt x="22844" y="0"/>
                </a:lnTo>
                <a:lnTo>
                  <a:pt x="21444" y="1400"/>
                </a:lnTo>
                <a:lnTo>
                  <a:pt x="1400" y="1400"/>
                </a:lnTo>
                <a:close/>
              </a:path>
              <a:path fill="darken" w="22844" h="21600">
                <a:moveTo>
                  <a:pt x="22844" y="0"/>
                </a:moveTo>
                <a:lnTo>
                  <a:pt x="22844" y="21600"/>
                </a:lnTo>
                <a:lnTo>
                  <a:pt x="21444" y="20200"/>
                </a:lnTo>
                <a:lnTo>
                  <a:pt x="21444" y="1400"/>
                </a:lnTo>
                <a:close/>
              </a:path>
              <a:path fill="darkenLess" w="22844" h="21600">
                <a:moveTo>
                  <a:pt x="22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44" y="20200"/>
                </a:lnTo>
                <a:close/>
              </a:path>
              <a:path fill="lighten" w="22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85">
            <a:hlinkClick r:id="rId9" action="ppaction://hlinksldjump"/>
          </p:cNvPr>
          <p:cNvSpPr/>
          <p:nvPr/>
        </p:nvSpPr>
        <p:spPr>
          <a:xfrm>
            <a:off x="4065480" y="4229280"/>
            <a:ext cx="700200" cy="661680"/>
          </a:xfrm>
          <a:custGeom>
            <a:avLst/>
            <a:gdLst>
              <a:gd name="textAreaLeft" fmla="*/ 42840 w 700200"/>
              <a:gd name="textAreaRight" fmla="*/ 657360 w 700200"/>
              <a:gd name="textAreaTop" fmla="*/ 42840 h 661680"/>
              <a:gd name="textAreaBottom" fmla="*/ 618840 h 661680"/>
            </a:gdLst>
            <a:ahLst/>
            <a:rect l="textAreaLeft" t="textAreaTop" r="textAreaRight" b="textAreaBottom"/>
            <a:pathLst>
              <a:path w="22857" h="21600">
                <a:moveTo>
                  <a:pt x="0" y="0"/>
                </a:moveTo>
                <a:lnTo>
                  <a:pt x="22857" y="0"/>
                </a:lnTo>
                <a:lnTo>
                  <a:pt x="22857" y="21600"/>
                </a:lnTo>
                <a:lnTo>
                  <a:pt x="0" y="21600"/>
                </a:lnTo>
                <a:close/>
              </a:path>
              <a:path fill="lightenLess" w="22857" h="21600">
                <a:moveTo>
                  <a:pt x="0" y="0"/>
                </a:moveTo>
                <a:lnTo>
                  <a:pt x="22857" y="0"/>
                </a:lnTo>
                <a:lnTo>
                  <a:pt x="21457" y="1400"/>
                </a:lnTo>
                <a:lnTo>
                  <a:pt x="1400" y="1400"/>
                </a:lnTo>
                <a:close/>
              </a:path>
              <a:path fill="darken" w="22857" h="21600">
                <a:moveTo>
                  <a:pt x="22857" y="0"/>
                </a:moveTo>
                <a:lnTo>
                  <a:pt x="22857" y="21600"/>
                </a:lnTo>
                <a:lnTo>
                  <a:pt x="21457" y="20200"/>
                </a:lnTo>
                <a:lnTo>
                  <a:pt x="21457" y="1400"/>
                </a:lnTo>
                <a:close/>
              </a:path>
              <a:path fill="darkenLess" w="22857" h="21600">
                <a:moveTo>
                  <a:pt x="228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7" y="20200"/>
                </a:lnTo>
                <a:close/>
              </a:path>
              <a:path fill="lighten" w="228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86">
            <a:hlinkClick r:id="rId10" action="ppaction://hlinksldjump"/>
          </p:cNvPr>
          <p:cNvSpPr/>
          <p:nvPr/>
        </p:nvSpPr>
        <p:spPr>
          <a:xfrm>
            <a:off x="4967280" y="4245120"/>
            <a:ext cx="652320" cy="645840"/>
          </a:xfrm>
          <a:custGeom>
            <a:avLst/>
            <a:gdLst>
              <a:gd name="textAreaLeft" fmla="*/ 41760 w 652320"/>
              <a:gd name="textAreaRight" fmla="*/ 610560 w 652320"/>
              <a:gd name="textAreaTop" fmla="*/ 41760 h 645840"/>
              <a:gd name="textAreaBottom" fmla="*/ 604080 h 645840"/>
            </a:gdLst>
            <a:ahLst/>
            <a:rect l="textAreaLeft" t="textAreaTop" r="textAreaRight" b="textAreaBottom"/>
            <a:pathLst>
              <a:path w="21817" h="21600">
                <a:moveTo>
                  <a:pt x="0" y="0"/>
                </a:moveTo>
                <a:lnTo>
                  <a:pt x="21817" y="0"/>
                </a:lnTo>
                <a:lnTo>
                  <a:pt x="21817" y="21600"/>
                </a:lnTo>
                <a:lnTo>
                  <a:pt x="0" y="21600"/>
                </a:lnTo>
                <a:close/>
              </a:path>
              <a:path fill="lightenLess" w="21817" h="21600">
                <a:moveTo>
                  <a:pt x="0" y="0"/>
                </a:moveTo>
                <a:lnTo>
                  <a:pt x="21817" y="0"/>
                </a:lnTo>
                <a:lnTo>
                  <a:pt x="20417" y="1400"/>
                </a:lnTo>
                <a:lnTo>
                  <a:pt x="1400" y="1400"/>
                </a:lnTo>
                <a:close/>
              </a:path>
              <a:path fill="darken" w="21817" h="21600">
                <a:moveTo>
                  <a:pt x="21817" y="0"/>
                </a:moveTo>
                <a:lnTo>
                  <a:pt x="21817" y="21600"/>
                </a:lnTo>
                <a:lnTo>
                  <a:pt x="20417" y="20200"/>
                </a:lnTo>
                <a:lnTo>
                  <a:pt x="20417" y="1400"/>
                </a:lnTo>
                <a:close/>
              </a:path>
              <a:path fill="darkenLess" w="21817" h="21600">
                <a:moveTo>
                  <a:pt x="218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17" y="20200"/>
                </a:lnTo>
                <a:close/>
              </a:path>
              <a:path fill="lighten" w="218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87">
            <a:hlinkClick r:id="rId11" action="ppaction://hlinksldjump"/>
          </p:cNvPr>
          <p:cNvSpPr/>
          <p:nvPr/>
        </p:nvSpPr>
        <p:spPr>
          <a:xfrm>
            <a:off x="5862600" y="4254480"/>
            <a:ext cx="681120" cy="650880"/>
          </a:xfrm>
          <a:custGeom>
            <a:avLst/>
            <a:gdLst>
              <a:gd name="textAreaLeft" fmla="*/ 42120 w 681120"/>
              <a:gd name="textAreaRight" fmla="*/ 639000 w 681120"/>
              <a:gd name="textAreaTop" fmla="*/ 42120 h 650880"/>
              <a:gd name="textAreaBottom" fmla="*/ 608760 h 650880"/>
            </a:gdLst>
            <a:ahLst/>
            <a:rect l="textAreaLeft" t="textAreaTop" r="textAreaRight" b="textAreaBottom"/>
            <a:pathLst>
              <a:path w="22603" h="21600">
                <a:moveTo>
                  <a:pt x="0" y="0"/>
                </a:moveTo>
                <a:lnTo>
                  <a:pt x="22603" y="0"/>
                </a:lnTo>
                <a:lnTo>
                  <a:pt x="22603" y="21600"/>
                </a:lnTo>
                <a:lnTo>
                  <a:pt x="0" y="21600"/>
                </a:lnTo>
                <a:close/>
              </a:path>
              <a:path fill="lightenLess" w="22603" h="21600">
                <a:moveTo>
                  <a:pt x="0" y="0"/>
                </a:moveTo>
                <a:lnTo>
                  <a:pt x="22603" y="0"/>
                </a:lnTo>
                <a:lnTo>
                  <a:pt x="21203" y="1400"/>
                </a:lnTo>
                <a:lnTo>
                  <a:pt x="1400" y="1400"/>
                </a:lnTo>
                <a:close/>
              </a:path>
              <a:path fill="darken" w="22603" h="21600">
                <a:moveTo>
                  <a:pt x="22603" y="0"/>
                </a:moveTo>
                <a:lnTo>
                  <a:pt x="22603" y="21600"/>
                </a:lnTo>
                <a:lnTo>
                  <a:pt x="21203" y="20200"/>
                </a:lnTo>
                <a:lnTo>
                  <a:pt x="21203" y="1400"/>
                </a:lnTo>
                <a:close/>
              </a:path>
              <a:path fill="darkenLess" w="22603" h="21600">
                <a:moveTo>
                  <a:pt x="226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203" y="20200"/>
                </a:lnTo>
                <a:close/>
              </a:path>
              <a:path fill="lighten" w="226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8f8f8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89">
            <a:hlinkClick r:id="rId12" action="ppaction://hlinksldjump"/>
          </p:cNvPr>
          <p:cNvSpPr/>
          <p:nvPr/>
        </p:nvSpPr>
        <p:spPr>
          <a:xfrm>
            <a:off x="3137040" y="5030640"/>
            <a:ext cx="738000" cy="662040"/>
          </a:xfrm>
          <a:custGeom>
            <a:avLst/>
            <a:gdLst>
              <a:gd name="textAreaLeft" fmla="*/ 42840 w 738000"/>
              <a:gd name="textAreaRight" fmla="*/ 695160 w 73800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077" h="21600">
                <a:moveTo>
                  <a:pt x="0" y="0"/>
                </a:moveTo>
                <a:lnTo>
                  <a:pt x="24077" y="0"/>
                </a:lnTo>
                <a:lnTo>
                  <a:pt x="24077" y="21600"/>
                </a:lnTo>
                <a:lnTo>
                  <a:pt x="0" y="21600"/>
                </a:lnTo>
                <a:close/>
              </a:path>
              <a:path fill="lightenLess" w="24077" h="21600">
                <a:moveTo>
                  <a:pt x="0" y="0"/>
                </a:moveTo>
                <a:lnTo>
                  <a:pt x="24077" y="0"/>
                </a:lnTo>
                <a:lnTo>
                  <a:pt x="22677" y="1400"/>
                </a:lnTo>
                <a:lnTo>
                  <a:pt x="1400" y="1400"/>
                </a:lnTo>
                <a:close/>
              </a:path>
              <a:path fill="darken" w="24077" h="21600">
                <a:moveTo>
                  <a:pt x="24077" y="0"/>
                </a:moveTo>
                <a:lnTo>
                  <a:pt x="24077" y="21600"/>
                </a:lnTo>
                <a:lnTo>
                  <a:pt x="22677" y="20200"/>
                </a:lnTo>
                <a:lnTo>
                  <a:pt x="22677" y="1400"/>
                </a:lnTo>
                <a:close/>
              </a:path>
              <a:path fill="darkenLess" w="24077" h="21600">
                <a:moveTo>
                  <a:pt x="2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77" y="20200"/>
                </a:lnTo>
                <a:close/>
              </a:path>
              <a:path fill="lighten" w="2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90">
            <a:hlinkClick r:id="rId13" action="ppaction://hlinksldjump"/>
          </p:cNvPr>
          <p:cNvSpPr/>
          <p:nvPr/>
        </p:nvSpPr>
        <p:spPr>
          <a:xfrm>
            <a:off x="4105440" y="5024520"/>
            <a:ext cx="738000" cy="652320"/>
          </a:xfrm>
          <a:custGeom>
            <a:avLst/>
            <a:gdLst>
              <a:gd name="textAreaLeft" fmla="*/ 42120 w 738000"/>
              <a:gd name="textAreaRight" fmla="*/ 695880 w 738000"/>
              <a:gd name="textAreaTop" fmla="*/ 42120 h 652320"/>
              <a:gd name="textAreaBottom" fmla="*/ 610200 h 652320"/>
            </a:gdLst>
            <a:ahLst/>
            <a:rect l="textAreaLeft" t="textAreaTop" r="textAreaRight" b="textAreaBottom"/>
            <a:pathLst>
              <a:path w="24436" h="21600">
                <a:moveTo>
                  <a:pt x="0" y="0"/>
                </a:moveTo>
                <a:lnTo>
                  <a:pt x="24436" y="0"/>
                </a:lnTo>
                <a:lnTo>
                  <a:pt x="24436" y="21600"/>
                </a:lnTo>
                <a:lnTo>
                  <a:pt x="0" y="21600"/>
                </a:lnTo>
                <a:close/>
              </a:path>
              <a:path fill="lightenLess" w="24436" h="21600">
                <a:moveTo>
                  <a:pt x="0" y="0"/>
                </a:moveTo>
                <a:lnTo>
                  <a:pt x="24436" y="0"/>
                </a:lnTo>
                <a:lnTo>
                  <a:pt x="23036" y="1400"/>
                </a:lnTo>
                <a:lnTo>
                  <a:pt x="1400" y="1400"/>
                </a:lnTo>
                <a:close/>
              </a:path>
              <a:path fill="darken" w="24436" h="21600">
                <a:moveTo>
                  <a:pt x="24436" y="0"/>
                </a:moveTo>
                <a:lnTo>
                  <a:pt x="24436" y="21600"/>
                </a:lnTo>
                <a:lnTo>
                  <a:pt x="23036" y="20200"/>
                </a:lnTo>
                <a:lnTo>
                  <a:pt x="23036" y="1400"/>
                </a:lnTo>
                <a:close/>
              </a:path>
              <a:path fill="darkenLess" w="24436" h="21600">
                <a:moveTo>
                  <a:pt x="244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36" y="20200"/>
                </a:lnTo>
                <a:close/>
              </a:path>
              <a:path fill="lighten" w="244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59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91">
            <a:hlinkClick r:id="rId14" action="ppaction://hlinksldjump"/>
          </p:cNvPr>
          <p:cNvSpPr/>
          <p:nvPr/>
        </p:nvSpPr>
        <p:spPr>
          <a:xfrm>
            <a:off x="4929120" y="5040360"/>
            <a:ext cx="719280" cy="620640"/>
          </a:xfrm>
          <a:custGeom>
            <a:avLst/>
            <a:gdLst>
              <a:gd name="textAreaLeft" fmla="*/ 39960 w 719280"/>
              <a:gd name="textAreaRight" fmla="*/ 679320 w 71928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5031" h="21600">
                <a:moveTo>
                  <a:pt x="0" y="0"/>
                </a:moveTo>
                <a:lnTo>
                  <a:pt x="25031" y="0"/>
                </a:lnTo>
                <a:lnTo>
                  <a:pt x="25031" y="21600"/>
                </a:lnTo>
                <a:lnTo>
                  <a:pt x="0" y="21600"/>
                </a:lnTo>
                <a:close/>
              </a:path>
              <a:path fill="lightenLess" w="25031" h="21600">
                <a:moveTo>
                  <a:pt x="0" y="0"/>
                </a:moveTo>
                <a:lnTo>
                  <a:pt x="25031" y="0"/>
                </a:lnTo>
                <a:lnTo>
                  <a:pt x="23631" y="1400"/>
                </a:lnTo>
                <a:lnTo>
                  <a:pt x="1400" y="1400"/>
                </a:lnTo>
                <a:close/>
              </a:path>
              <a:path fill="darken" w="25031" h="21600">
                <a:moveTo>
                  <a:pt x="25031" y="0"/>
                </a:moveTo>
                <a:lnTo>
                  <a:pt x="25031" y="21600"/>
                </a:lnTo>
                <a:lnTo>
                  <a:pt x="23631" y="20200"/>
                </a:lnTo>
                <a:lnTo>
                  <a:pt x="23631" y="1400"/>
                </a:lnTo>
                <a:close/>
              </a:path>
              <a:path fill="darkenLess" w="25031" h="21600">
                <a:moveTo>
                  <a:pt x="250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31" y="20200"/>
                </a:lnTo>
                <a:close/>
              </a:path>
              <a:path fill="lighten" w="250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59c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92">
            <a:hlinkClick r:id="rId15" action="ppaction://hlinksldjump"/>
          </p:cNvPr>
          <p:cNvSpPr/>
          <p:nvPr/>
        </p:nvSpPr>
        <p:spPr>
          <a:xfrm>
            <a:off x="5824440" y="5005440"/>
            <a:ext cx="728640" cy="662040"/>
          </a:xfrm>
          <a:custGeom>
            <a:avLst/>
            <a:gdLst>
              <a:gd name="textAreaLeft" fmla="*/ 42840 w 728640"/>
              <a:gd name="textAreaRight" fmla="*/ 685800 w 72864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3772" h="21600">
                <a:moveTo>
                  <a:pt x="0" y="0"/>
                </a:moveTo>
                <a:lnTo>
                  <a:pt x="23772" y="0"/>
                </a:lnTo>
                <a:lnTo>
                  <a:pt x="23772" y="21600"/>
                </a:lnTo>
                <a:lnTo>
                  <a:pt x="0" y="21600"/>
                </a:lnTo>
                <a:close/>
              </a:path>
              <a:path fill="lightenLess" w="23772" h="21600">
                <a:moveTo>
                  <a:pt x="0" y="0"/>
                </a:moveTo>
                <a:lnTo>
                  <a:pt x="23772" y="0"/>
                </a:lnTo>
                <a:lnTo>
                  <a:pt x="22372" y="1400"/>
                </a:lnTo>
                <a:lnTo>
                  <a:pt x="1400" y="1400"/>
                </a:lnTo>
                <a:close/>
              </a:path>
              <a:path fill="darken" w="23772" h="21600">
                <a:moveTo>
                  <a:pt x="23772" y="0"/>
                </a:moveTo>
                <a:lnTo>
                  <a:pt x="23772" y="21600"/>
                </a:lnTo>
                <a:lnTo>
                  <a:pt x="22372" y="20200"/>
                </a:lnTo>
                <a:lnTo>
                  <a:pt x="22372" y="1400"/>
                </a:lnTo>
                <a:close/>
              </a:path>
              <a:path fill="darkenLess" w="23772" h="21600">
                <a:moveTo>
                  <a:pt x="23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72" y="20200"/>
                </a:lnTo>
                <a:close/>
              </a:path>
              <a:path fill="lighten" w="23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1459c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94">
            <a:hlinkClick r:id="rId16" action="ppaction://hlinksldjump"/>
          </p:cNvPr>
          <p:cNvSpPr/>
          <p:nvPr/>
        </p:nvSpPr>
        <p:spPr>
          <a:xfrm>
            <a:off x="5886360" y="2673360"/>
            <a:ext cx="681120" cy="614520"/>
          </a:xfrm>
          <a:custGeom>
            <a:avLst/>
            <a:gdLst>
              <a:gd name="textAreaLeft" fmla="*/ 39600 w 681120"/>
              <a:gd name="textAreaRight" fmla="*/ 641520 w 681120"/>
              <a:gd name="textAreaTop" fmla="*/ 39600 h 614520"/>
              <a:gd name="textAreaBottom" fmla="*/ 574920 h 614520"/>
            </a:gdLst>
            <a:ahLst/>
            <a:rect l="textAreaLeft" t="textAreaTop" r="textAreaRight" b="textAreaBottom"/>
            <a:pathLst>
              <a:path w="23940" h="21600">
                <a:moveTo>
                  <a:pt x="0" y="0"/>
                </a:moveTo>
                <a:lnTo>
                  <a:pt x="23940" y="0"/>
                </a:lnTo>
                <a:lnTo>
                  <a:pt x="23940" y="21600"/>
                </a:lnTo>
                <a:lnTo>
                  <a:pt x="0" y="21600"/>
                </a:lnTo>
                <a:close/>
              </a:path>
              <a:path fill="lightenLess" w="23940" h="21600">
                <a:moveTo>
                  <a:pt x="0" y="0"/>
                </a:moveTo>
                <a:lnTo>
                  <a:pt x="23940" y="0"/>
                </a:lnTo>
                <a:lnTo>
                  <a:pt x="22540" y="1400"/>
                </a:lnTo>
                <a:lnTo>
                  <a:pt x="1400" y="1400"/>
                </a:lnTo>
                <a:close/>
              </a:path>
              <a:path fill="darken" w="23940" h="21600">
                <a:moveTo>
                  <a:pt x="23940" y="0"/>
                </a:moveTo>
                <a:lnTo>
                  <a:pt x="23940" y="21600"/>
                </a:lnTo>
                <a:lnTo>
                  <a:pt x="22540" y="20200"/>
                </a:lnTo>
                <a:lnTo>
                  <a:pt x="22540" y="1400"/>
                </a:lnTo>
                <a:close/>
              </a:path>
              <a:path fill="darkenLess" w="23940" h="21600">
                <a:moveTo>
                  <a:pt x="239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40" y="20200"/>
                </a:lnTo>
                <a:close/>
              </a:path>
              <a:path fill="lighten" w="239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2f69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01"/>
          <p:cNvSpPr/>
          <p:nvPr/>
        </p:nvSpPr>
        <p:spPr>
          <a:xfrm>
            <a:off x="855720" y="917640"/>
            <a:ext cx="743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КОНСТИТУЦИЯ  И  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9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499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99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00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00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" restart="whenNotActive" nodeType="interactiveSeq" fill="hold">
                <p:stCondLst>
                  <p:cond evt="onClick">
                    <p:tgtEl>
                      <p:spTgt spid="50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50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0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0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3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503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504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504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505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505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75" nodeType="clickEffect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81" nodeType="clickEffect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87" nodeType="clickEffect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960480" y="38412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2504160" y="1568520"/>
            <a:ext cx="500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Статья 20  Конституции Р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1571760" y="260496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 имеет  право  на  жизнь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6"/>
          <p:cNvSpPr/>
          <p:nvPr/>
        </p:nvSpPr>
        <p:spPr>
          <a:xfrm>
            <a:off x="7763040" y="5762520"/>
            <a:ext cx="795240" cy="795600"/>
          </a:xfrm>
          <a:custGeom>
            <a:avLst/>
            <a:gdLst>
              <a:gd name="textAreaLeft" fmla="*/ 51480 w 795240"/>
              <a:gd name="textAreaRight" fmla="*/ 743760 w 795240"/>
              <a:gd name="textAreaTop" fmla="*/ 51480 h 795600"/>
              <a:gd name="textAreaBottom" fmla="*/ 744120 h 79560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7497"/>
                </a:moveTo>
                <a:lnTo>
                  <a:pt x="7301" y="7497"/>
                </a:lnTo>
                <a:lnTo>
                  <a:pt x="7301" y="12833"/>
                </a:lnTo>
                <a:cubicBezTo>
                  <a:pt x="7301" y="13755"/>
                  <a:pt x="8102" y="14487"/>
                  <a:pt x="9138" y="14487"/>
                </a:cubicBezTo>
                <a:lnTo>
                  <a:pt x="10800" y="14487"/>
                </a:lnTo>
                <a:cubicBezTo>
                  <a:pt x="11836" y="14487"/>
                  <a:pt x="12636" y="13755"/>
                  <a:pt x="12636" y="12833"/>
                </a:cubicBezTo>
                <a:lnTo>
                  <a:pt x="12636" y="7497"/>
                </a:lnTo>
                <a:lnTo>
                  <a:pt x="10800" y="7497"/>
                </a:lnTo>
                <a:lnTo>
                  <a:pt x="14308" y="3990"/>
                </a:lnTo>
                <a:lnTo>
                  <a:pt x="17981" y="7497"/>
                </a:lnTo>
                <a:lnTo>
                  <a:pt x="16144" y="7497"/>
                </a:lnTo>
                <a:lnTo>
                  <a:pt x="16144" y="12833"/>
                </a:lnTo>
                <a:cubicBezTo>
                  <a:pt x="16144" y="15601"/>
                  <a:pt x="13568" y="18160"/>
                  <a:pt x="10800" y="18160"/>
                </a:cubicBezTo>
                <a:lnTo>
                  <a:pt x="9138" y="18160"/>
                </a:lnTo>
                <a:cubicBezTo>
                  <a:pt x="6370" y="18160"/>
                  <a:pt x="3794" y="15601"/>
                  <a:pt x="3794" y="12833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Обязанности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AutoShape 6">
            <a:hlinkClick r:id="rId1"/>
          </p:cNvPr>
          <p:cNvSpPr/>
          <p:nvPr/>
        </p:nvSpPr>
        <p:spPr>
          <a:xfrm>
            <a:off x="8026560" y="5918040"/>
            <a:ext cx="871200" cy="722520"/>
          </a:xfrm>
          <a:custGeom>
            <a:avLst/>
            <a:gdLst>
              <a:gd name="textAreaLeft" fmla="*/ 46800 w 871200"/>
              <a:gd name="textAreaRight" fmla="*/ 824400 w 871200"/>
              <a:gd name="textAreaTop" fmla="*/ 46800 h 722520"/>
              <a:gd name="textAreaBottom" fmla="*/ 675720 h 722520"/>
            </a:gdLst>
            <a:ahLst/>
            <a:rect l="textAreaLeft" t="textAreaTop" r="textAreaRight" b="textAreaBottom"/>
            <a:pathLst>
              <a:path w="26043" h="21600">
                <a:moveTo>
                  <a:pt x="0" y="0"/>
                </a:moveTo>
                <a:lnTo>
                  <a:pt x="26043" y="0"/>
                </a:lnTo>
                <a:lnTo>
                  <a:pt x="26043" y="21600"/>
                </a:lnTo>
                <a:lnTo>
                  <a:pt x="0" y="21600"/>
                </a:lnTo>
                <a:close/>
              </a:path>
              <a:path fill="lightenLess" w="26043" h="21600">
                <a:moveTo>
                  <a:pt x="0" y="0"/>
                </a:moveTo>
                <a:lnTo>
                  <a:pt x="26043" y="0"/>
                </a:lnTo>
                <a:lnTo>
                  <a:pt x="24643" y="1400"/>
                </a:lnTo>
                <a:lnTo>
                  <a:pt x="1400" y="1400"/>
                </a:lnTo>
                <a:close/>
              </a:path>
              <a:path fill="darken" w="26043" h="21600">
                <a:moveTo>
                  <a:pt x="26043" y="0"/>
                </a:moveTo>
                <a:lnTo>
                  <a:pt x="26043" y="21600"/>
                </a:lnTo>
                <a:lnTo>
                  <a:pt x="24643" y="20200"/>
                </a:lnTo>
                <a:lnTo>
                  <a:pt x="24643" y="1400"/>
                </a:lnTo>
                <a:close/>
              </a:path>
              <a:path fill="darkenLess" w="26043" h="21600">
                <a:moveTo>
                  <a:pt x="26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43" y="20200"/>
                </a:lnTo>
                <a:close/>
              </a:path>
              <a:path fill="lighten" w="26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43" h="21600">
                <a:moveTo>
                  <a:pt x="6015" y="3794"/>
                </a:moveTo>
                <a:lnTo>
                  <a:pt x="20028" y="10800"/>
                </a:lnTo>
                <a:lnTo>
                  <a:pt x="6015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9" descr="4048"/>
          <p:cNvPicPr/>
          <p:nvPr/>
        </p:nvPicPr>
        <p:blipFill>
          <a:blip r:embed="rId1"/>
          <a:stretch/>
        </p:blipFill>
        <p:spPr>
          <a:xfrm>
            <a:off x="806400" y="587520"/>
            <a:ext cx="7620120" cy="56689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685800" y="35568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4"/>
          <p:cNvSpPr/>
          <p:nvPr/>
        </p:nvSpPr>
        <p:spPr>
          <a:xfrm>
            <a:off x="407880" y="1585800"/>
            <a:ext cx="76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щита Отечества является долг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  обязанностью  граждани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ссийской 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459c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59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7" name="Picture 7" descr="Caregiving"/>
          <p:cNvPicPr/>
          <p:nvPr/>
        </p:nvPicPr>
        <p:blipFill>
          <a:blip r:embed="rId1"/>
          <a:stretch/>
        </p:blipFill>
        <p:spPr>
          <a:xfrm>
            <a:off x="800280" y="763560"/>
            <a:ext cx="7511760" cy="5521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685800" y="32688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6"/>
          <p:cNvSpPr/>
          <p:nvPr/>
        </p:nvSpPr>
        <p:spPr>
          <a:xfrm>
            <a:off x="787320" y="28260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4"/>
          <p:cNvSpPr/>
          <p:nvPr/>
        </p:nvSpPr>
        <p:spPr>
          <a:xfrm>
            <a:off x="1336680" y="1978200"/>
            <a:ext cx="6210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рудоспособные дети , достигшие 18 лет, должны заботиться о нетрудоспособных родителя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38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7" descr="22"/>
          <p:cNvPicPr/>
          <p:nvPr/>
        </p:nvPicPr>
        <p:blipFill>
          <a:blip r:embed="rId1"/>
          <a:stretch/>
        </p:blipFill>
        <p:spPr>
          <a:xfrm>
            <a:off x="725400" y="314280"/>
            <a:ext cx="7721640" cy="60134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6"/>
          <p:cNvSpPr/>
          <p:nvPr/>
        </p:nvSpPr>
        <p:spPr>
          <a:xfrm>
            <a:off x="946080" y="22536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4"/>
          <p:cNvSpPr/>
          <p:nvPr/>
        </p:nvSpPr>
        <p:spPr>
          <a:xfrm>
            <a:off x="1009800" y="1144440"/>
            <a:ext cx="737208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ое общее образование обязательн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дители или лица их заменяющи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еспечивают получение детьми основного обще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1459c"/>
                </a:solidFill>
                <a:latin typeface="Arial"/>
              </a:rPr>
              <a:t>                             </a:t>
            </a: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(ст.43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Picture 4" descr="deti-roditeli-zabota"/>
          <p:cNvPicPr/>
          <p:nvPr/>
        </p:nvPicPr>
        <p:blipFill>
          <a:blip r:embed="rId1"/>
          <a:stretch/>
        </p:blipFill>
        <p:spPr>
          <a:xfrm>
            <a:off x="609480" y="579600"/>
            <a:ext cx="7925040" cy="57783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6"/>
          <p:cNvSpPr/>
          <p:nvPr/>
        </p:nvSpPr>
        <p:spPr>
          <a:xfrm>
            <a:off x="684360" y="19512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765000" y="1773360"/>
            <a:ext cx="7405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ота о детях, их воспитание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язанность родит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    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38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Простой вопрос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>
            <a:hlinkClick r:id="rId1" action="ppaction://hlinksldjump"/>
          </p:cNvPr>
          <p:cNvSpPr/>
          <p:nvPr/>
        </p:nvSpPr>
        <p:spPr>
          <a:xfrm>
            <a:off x="8026560" y="5918040"/>
            <a:ext cx="871200" cy="722520"/>
          </a:xfrm>
          <a:custGeom>
            <a:avLst/>
            <a:gdLst>
              <a:gd name="textAreaLeft" fmla="*/ 46800 w 871200"/>
              <a:gd name="textAreaRight" fmla="*/ 824400 w 871200"/>
              <a:gd name="textAreaTop" fmla="*/ 46800 h 722520"/>
              <a:gd name="textAreaBottom" fmla="*/ 675720 h 722520"/>
            </a:gdLst>
            <a:ahLst/>
            <a:rect l="textAreaLeft" t="textAreaTop" r="textAreaRight" b="textAreaBottom"/>
            <a:pathLst>
              <a:path w="26043" h="21600">
                <a:moveTo>
                  <a:pt x="0" y="0"/>
                </a:moveTo>
                <a:lnTo>
                  <a:pt x="26043" y="0"/>
                </a:lnTo>
                <a:lnTo>
                  <a:pt x="26043" y="21600"/>
                </a:lnTo>
                <a:lnTo>
                  <a:pt x="0" y="21600"/>
                </a:lnTo>
                <a:close/>
              </a:path>
              <a:path fill="lightenLess" w="26043" h="21600">
                <a:moveTo>
                  <a:pt x="0" y="0"/>
                </a:moveTo>
                <a:lnTo>
                  <a:pt x="26043" y="0"/>
                </a:lnTo>
                <a:lnTo>
                  <a:pt x="24643" y="1400"/>
                </a:lnTo>
                <a:lnTo>
                  <a:pt x="1400" y="1400"/>
                </a:lnTo>
                <a:close/>
              </a:path>
              <a:path fill="darken" w="26043" h="21600">
                <a:moveTo>
                  <a:pt x="26043" y="0"/>
                </a:moveTo>
                <a:lnTo>
                  <a:pt x="26043" y="21600"/>
                </a:lnTo>
                <a:lnTo>
                  <a:pt x="24643" y="20200"/>
                </a:lnTo>
                <a:lnTo>
                  <a:pt x="24643" y="1400"/>
                </a:lnTo>
                <a:close/>
              </a:path>
              <a:path fill="darkenLess" w="26043" h="21600">
                <a:moveTo>
                  <a:pt x="260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43" y="20200"/>
                </a:lnTo>
                <a:close/>
              </a:path>
              <a:path fill="lighten" w="260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43" h="21600">
                <a:moveTo>
                  <a:pt x="6015" y="3794"/>
                </a:moveTo>
                <a:lnTo>
                  <a:pt x="20028" y="10800"/>
                </a:lnTo>
                <a:lnTo>
                  <a:pt x="6015" y="17806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Picture 7" descr="50bbb34a05c666e9f569a50eb"/>
          <p:cNvPicPr/>
          <p:nvPr/>
        </p:nvPicPr>
        <p:blipFill>
          <a:blip r:embed="rId1"/>
          <a:stretch/>
        </p:blipFill>
        <p:spPr>
          <a:xfrm>
            <a:off x="507960" y="246240"/>
            <a:ext cx="8099640" cy="6242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6"/>
          <p:cNvSpPr/>
          <p:nvPr/>
        </p:nvSpPr>
        <p:spPr>
          <a:xfrm>
            <a:off x="611280" y="237960"/>
            <a:ext cx="7807320" cy="628524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4"/>
          <p:cNvSpPr/>
          <p:nvPr/>
        </p:nvSpPr>
        <p:spPr>
          <a:xfrm>
            <a:off x="1353960" y="1386000"/>
            <a:ext cx="6096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аждый обязан платить законно установленные налоги и сборы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(ст.57  Конституции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8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2293920" y="1984320"/>
            <a:ext cx="4710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  </a:t>
            </a:r>
            <a:r>
              <a:rPr b="1" lang="ru-RU" sz="5400" spc="-1" strike="noStrike">
                <a:solidFill>
                  <a:srgbClr val="31459c"/>
                </a:solidFill>
                <a:latin typeface="Arial"/>
              </a:rPr>
              <a:t>Категор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"/>
          <p:cNvSpPr/>
          <p:nvPr/>
        </p:nvSpPr>
        <p:spPr>
          <a:xfrm>
            <a:off x="420840" y="3313080"/>
            <a:ext cx="8070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          </a:t>
            </a:r>
            <a:r>
              <a:rPr b="1" lang="ru-RU" sz="6600" spc="-1" strike="noStrike">
                <a:solidFill>
                  <a:srgbClr val="cc0000"/>
                </a:solidFill>
                <a:latin typeface="Arial"/>
              </a:rPr>
              <a:t>Символик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4"/>
          <p:cNvSpPr/>
          <p:nvPr/>
        </p:nvSpPr>
        <p:spPr>
          <a:xfrm>
            <a:off x="2917440" y="434880"/>
            <a:ext cx="298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459c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ЛАГ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Picture 5" descr="685613853"/>
          <p:cNvPicPr/>
          <p:nvPr/>
        </p:nvPicPr>
        <p:blipFill>
          <a:blip r:embed="rId1"/>
          <a:stretch/>
        </p:blipFill>
        <p:spPr>
          <a:xfrm>
            <a:off x="0" y="4444920"/>
            <a:ext cx="3619440" cy="2413080"/>
          </a:xfrm>
          <a:prstGeom prst="rect">
            <a:avLst/>
          </a:prstGeom>
          <a:ln w="0">
            <a:noFill/>
          </a:ln>
        </p:spPr>
      </p:pic>
      <p:sp>
        <p:nvSpPr>
          <p:cNvPr id="605" name="Text Box 6"/>
          <p:cNvSpPr/>
          <p:nvPr/>
        </p:nvSpPr>
        <p:spPr>
          <a:xfrm>
            <a:off x="4390560" y="5646600"/>
            <a:ext cx="277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ИДЕРЛАН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7" descr="551062256"/>
          <p:cNvPicPr/>
          <p:nvPr/>
        </p:nvPicPr>
        <p:blipFill>
          <a:blip r:embed="rId2"/>
          <a:stretch/>
        </p:blipFill>
        <p:spPr>
          <a:xfrm>
            <a:off x="5257800" y="1817640"/>
            <a:ext cx="3610080" cy="241164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8"/>
          <p:cNvSpPr/>
          <p:nvPr/>
        </p:nvSpPr>
        <p:spPr>
          <a:xfrm>
            <a:off x="5990040" y="4532400"/>
            <a:ext cx="171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Picture 9" descr="642435582"/>
          <p:cNvPicPr/>
          <p:nvPr/>
        </p:nvPicPr>
        <p:blipFill>
          <a:blip r:embed="rId3"/>
          <a:stretch/>
        </p:blipFill>
        <p:spPr>
          <a:xfrm>
            <a:off x="654120" y="1049400"/>
            <a:ext cx="3956040" cy="2384280"/>
          </a:xfrm>
          <a:prstGeom prst="rect">
            <a:avLst/>
          </a:prstGeom>
          <a:ln w="0">
            <a:noFill/>
          </a:ln>
        </p:spPr>
      </p:pic>
      <p:sp>
        <p:nvSpPr>
          <p:cNvPr id="609" name="Text Box 10"/>
          <p:cNvSpPr/>
          <p:nvPr/>
        </p:nvSpPr>
        <p:spPr>
          <a:xfrm>
            <a:off x="1284840" y="3589200"/>
            <a:ext cx="215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АРАГВА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11"/>
          <p:cNvSpPr/>
          <p:nvPr/>
        </p:nvSpPr>
        <p:spPr>
          <a:xfrm>
            <a:off x="8126280" y="5827680"/>
            <a:ext cx="757440" cy="747720"/>
          </a:xfrm>
          <a:custGeom>
            <a:avLst/>
            <a:gdLst>
              <a:gd name="textAreaLeft" fmla="*/ 48240 w 757440"/>
              <a:gd name="textAreaRight" fmla="*/ 709200 w 757440"/>
              <a:gd name="textAreaTop" fmla="*/ 48240 h 747720"/>
              <a:gd name="textAreaBottom" fmla="*/ 699480 h 747720"/>
            </a:gdLst>
            <a:ahLst/>
            <a:rect l="textAreaLeft" t="textAreaTop" r="textAreaRight" b="textAreaBottom"/>
            <a:pathLst>
              <a:path w="21881" h="21600">
                <a:moveTo>
                  <a:pt x="0" y="0"/>
                </a:moveTo>
                <a:lnTo>
                  <a:pt x="21881" y="0"/>
                </a:lnTo>
                <a:lnTo>
                  <a:pt x="21881" y="21600"/>
                </a:lnTo>
                <a:lnTo>
                  <a:pt x="0" y="21600"/>
                </a:lnTo>
                <a:close/>
              </a:path>
              <a:path fill="lightenLess" w="21881" h="21600">
                <a:moveTo>
                  <a:pt x="0" y="0"/>
                </a:moveTo>
                <a:lnTo>
                  <a:pt x="21881" y="0"/>
                </a:lnTo>
                <a:lnTo>
                  <a:pt x="20481" y="1400"/>
                </a:lnTo>
                <a:lnTo>
                  <a:pt x="1400" y="1400"/>
                </a:lnTo>
                <a:close/>
              </a:path>
              <a:path fill="darken" w="21881" h="21600">
                <a:moveTo>
                  <a:pt x="21881" y="0"/>
                </a:moveTo>
                <a:lnTo>
                  <a:pt x="21881" y="21600"/>
                </a:lnTo>
                <a:lnTo>
                  <a:pt x="20481" y="20200"/>
                </a:lnTo>
                <a:lnTo>
                  <a:pt x="20481" y="1400"/>
                </a:lnTo>
                <a:close/>
              </a:path>
              <a:path fill="darkenLess" w="21881" h="21600">
                <a:moveTo>
                  <a:pt x="218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81" y="20200"/>
                </a:lnTo>
                <a:close/>
              </a:path>
              <a:path fill="lighten" w="218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81" h="21600">
                <a:moveTo>
                  <a:pt x="3934" y="7493"/>
                </a:moveTo>
                <a:lnTo>
                  <a:pt x="7441" y="7493"/>
                </a:lnTo>
                <a:lnTo>
                  <a:pt x="7441" y="12828"/>
                </a:lnTo>
                <a:cubicBezTo>
                  <a:pt x="7441" y="13751"/>
                  <a:pt x="8242" y="14482"/>
                  <a:pt x="9278" y="14482"/>
                </a:cubicBezTo>
                <a:lnTo>
                  <a:pt x="10940" y="14482"/>
                </a:lnTo>
                <a:cubicBezTo>
                  <a:pt x="11976" y="14482"/>
                  <a:pt x="12777" y="13751"/>
                  <a:pt x="12777" y="12828"/>
                </a:cubicBezTo>
                <a:lnTo>
                  <a:pt x="12777" y="7493"/>
                </a:lnTo>
                <a:lnTo>
                  <a:pt x="10940" y="7493"/>
                </a:lnTo>
                <a:lnTo>
                  <a:pt x="14448" y="3985"/>
                </a:lnTo>
                <a:lnTo>
                  <a:pt x="18121" y="7493"/>
                </a:lnTo>
                <a:lnTo>
                  <a:pt x="16284" y="7493"/>
                </a:lnTo>
                <a:lnTo>
                  <a:pt x="16284" y="12828"/>
                </a:lnTo>
                <a:cubicBezTo>
                  <a:pt x="16284" y="15596"/>
                  <a:pt x="13708" y="18155"/>
                  <a:pt x="10940" y="18155"/>
                </a:cubicBezTo>
                <a:lnTo>
                  <a:pt x="9278" y="18155"/>
                </a:lnTo>
                <a:cubicBezTo>
                  <a:pt x="6510" y="18155"/>
                  <a:pt x="3934" y="15596"/>
                  <a:pt x="3934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2"/>
          <p:cNvSpPr/>
          <p:nvPr/>
        </p:nvSpPr>
        <p:spPr>
          <a:xfrm>
            <a:off x="509760" y="347508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3"/>
          <p:cNvSpPr/>
          <p:nvPr/>
        </p:nvSpPr>
        <p:spPr>
          <a:xfrm>
            <a:off x="5462640" y="4484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14"/>
          <p:cNvSpPr/>
          <p:nvPr/>
        </p:nvSpPr>
        <p:spPr>
          <a:xfrm>
            <a:off x="3729240" y="5132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часы.wav" descr=""/>
          <p:cNvPicPr/>
          <p:nvPr/>
        </p:nvPicPr>
        <p:blipFill>
          <a:blip r:embed="rId4"/>
          <a:stretch/>
        </p:blipFill>
        <p:spPr>
          <a:xfrm>
            <a:off x="7543800" y="6334200"/>
            <a:ext cx="219240" cy="2188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179" dur="indefinite" restart="never" nodeType="tmRoot">
          <p:childTnLst>
            <p:seq>
              <p:cTn id="180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181" nodeType="clickEffect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208" nodeType="clickEffect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0000" fill="hold"/>
                                        <p:tgtEl>
                                          <p:spTgt spid="6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19" descr="42158"/>
          <p:cNvPicPr/>
          <p:nvPr/>
        </p:nvPicPr>
        <p:blipFill>
          <a:blip r:embed="rId1"/>
          <a:stretch/>
        </p:blipFill>
        <p:spPr>
          <a:xfrm>
            <a:off x="2990880" y="299880"/>
            <a:ext cx="3071880" cy="4388040"/>
          </a:xfrm>
          <a:prstGeom prst="rect">
            <a:avLst/>
          </a:prstGeom>
          <a:ln w="0">
            <a:noFill/>
          </a:ln>
        </p:spPr>
      </p:pic>
      <p:sp>
        <p:nvSpPr>
          <p:cNvPr id="616" name="Text Box 9"/>
          <p:cNvSpPr/>
          <p:nvPr/>
        </p:nvSpPr>
        <p:spPr>
          <a:xfrm>
            <a:off x="2171520" y="244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10"/>
          <p:cNvSpPr/>
          <p:nvPr/>
        </p:nvSpPr>
        <p:spPr>
          <a:xfrm>
            <a:off x="80640" y="28544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11"/>
          <p:cNvSpPr/>
          <p:nvPr/>
        </p:nvSpPr>
        <p:spPr>
          <a:xfrm>
            <a:off x="8602560" y="28926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12"/>
          <p:cNvSpPr/>
          <p:nvPr/>
        </p:nvSpPr>
        <p:spPr>
          <a:xfrm>
            <a:off x="1207800" y="1166760"/>
            <a:ext cx="16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ерб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13"/>
          <p:cNvSpPr/>
          <p:nvPr/>
        </p:nvSpPr>
        <p:spPr>
          <a:xfrm>
            <a:off x="695160" y="254808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ль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14"/>
          <p:cNvSpPr/>
          <p:nvPr/>
        </p:nvSpPr>
        <p:spPr>
          <a:xfrm>
            <a:off x="6636240" y="2781360"/>
            <a:ext cx="15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ос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7" descr="133"/>
          <p:cNvPicPr/>
          <p:nvPr/>
        </p:nvPicPr>
        <p:blipFill>
          <a:blip r:embed="rId2"/>
          <a:stretch/>
        </p:blipFill>
        <p:spPr>
          <a:xfrm>
            <a:off x="407880" y="3368520"/>
            <a:ext cx="3105360" cy="348948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8" descr="10459_html_85b62d4"/>
          <p:cNvPicPr/>
          <p:nvPr/>
        </p:nvPicPr>
        <p:blipFill>
          <a:blip r:embed="rId3"/>
          <a:stretch/>
        </p:blipFill>
        <p:spPr>
          <a:xfrm>
            <a:off x="5877000" y="3395520"/>
            <a:ext cx="2976480" cy="3462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232" nodeType="clickEffect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10"/>
          <p:cNvSpPr/>
          <p:nvPr/>
        </p:nvSpPr>
        <p:spPr>
          <a:xfrm>
            <a:off x="1177920" y="573120"/>
            <a:ext cx="7488360" cy="60022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"/>
          <p:cNvSpPr/>
          <p:nvPr/>
        </p:nvSpPr>
        <p:spPr>
          <a:xfrm>
            <a:off x="2049120" y="784080"/>
            <a:ext cx="533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1459c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то автор слов гим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сийской Федерации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7">
            <a:hlinkClick r:id="rId1"/>
          </p:cNvPr>
          <p:cNvSpPr/>
          <p:nvPr/>
        </p:nvSpPr>
        <p:spPr>
          <a:xfrm>
            <a:off x="3368520" y="4761000"/>
            <a:ext cx="2928960" cy="10429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0648" h="21600">
                <a:moveTo>
                  <a:pt x="0" y="0"/>
                </a:moveTo>
                <a:lnTo>
                  <a:pt x="60648" y="0"/>
                </a:lnTo>
                <a:lnTo>
                  <a:pt x="60648" y="21600"/>
                </a:lnTo>
                <a:lnTo>
                  <a:pt x="0" y="21600"/>
                </a:lnTo>
                <a:close/>
              </a:path>
              <a:path fill="lightenLess" w="60648" h="21600">
                <a:moveTo>
                  <a:pt x="0" y="0"/>
                </a:moveTo>
                <a:lnTo>
                  <a:pt x="60648" y="0"/>
                </a:lnTo>
                <a:lnTo>
                  <a:pt x="59249" y="1400"/>
                </a:lnTo>
                <a:lnTo>
                  <a:pt x="1400" y="1400"/>
                </a:lnTo>
                <a:close/>
              </a:path>
              <a:path fill="darken" w="60648" h="21600">
                <a:moveTo>
                  <a:pt x="60648" y="0"/>
                </a:moveTo>
                <a:lnTo>
                  <a:pt x="60648" y="21600"/>
                </a:lnTo>
                <a:lnTo>
                  <a:pt x="59249" y="20200"/>
                </a:lnTo>
                <a:lnTo>
                  <a:pt x="59249" y="1400"/>
                </a:lnTo>
                <a:close/>
              </a:path>
              <a:path fill="darkenLess" w="60648" h="21600">
                <a:moveTo>
                  <a:pt x="6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49" y="20200"/>
                </a:lnTo>
                <a:close/>
              </a:path>
              <a:path fill="lighten" w="6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ргей</a:t>
            </a:r>
            <a:r>
              <a:rPr b="0" lang="ru-RU" sz="2000" spc="-1" strike="noStrike">
                <a:solidFill>
                  <a:srgbClr val="31459c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ихал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>
            <a:hlinkClick r:id="rId2"/>
          </p:cNvPr>
          <p:cNvSpPr/>
          <p:nvPr/>
        </p:nvSpPr>
        <p:spPr>
          <a:xfrm>
            <a:off x="3303720" y="3367080"/>
            <a:ext cx="2928960" cy="10429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0648" h="21600">
                <a:moveTo>
                  <a:pt x="0" y="0"/>
                </a:moveTo>
                <a:lnTo>
                  <a:pt x="60648" y="0"/>
                </a:lnTo>
                <a:lnTo>
                  <a:pt x="60648" y="21600"/>
                </a:lnTo>
                <a:lnTo>
                  <a:pt x="0" y="21600"/>
                </a:lnTo>
                <a:close/>
              </a:path>
              <a:path fill="lightenLess" w="60648" h="21600">
                <a:moveTo>
                  <a:pt x="0" y="0"/>
                </a:moveTo>
                <a:lnTo>
                  <a:pt x="60648" y="0"/>
                </a:lnTo>
                <a:lnTo>
                  <a:pt x="59249" y="1400"/>
                </a:lnTo>
                <a:lnTo>
                  <a:pt x="1400" y="1400"/>
                </a:lnTo>
                <a:close/>
              </a:path>
              <a:path fill="darken" w="60648" h="21600">
                <a:moveTo>
                  <a:pt x="60648" y="0"/>
                </a:moveTo>
                <a:lnTo>
                  <a:pt x="60648" y="21600"/>
                </a:lnTo>
                <a:lnTo>
                  <a:pt x="59249" y="20200"/>
                </a:lnTo>
                <a:lnTo>
                  <a:pt x="59249" y="1400"/>
                </a:lnTo>
                <a:close/>
              </a:path>
              <a:path fill="darkenLess" w="60648" h="21600">
                <a:moveTo>
                  <a:pt x="6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49" y="20200"/>
                </a:lnTo>
                <a:close/>
              </a:path>
              <a:path fill="lighten" w="6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вгений  Евтуш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9">
            <a:hlinkClick r:id="rId3"/>
          </p:cNvPr>
          <p:cNvSpPr/>
          <p:nvPr/>
        </p:nvSpPr>
        <p:spPr>
          <a:xfrm>
            <a:off x="3300480" y="2030400"/>
            <a:ext cx="2928960" cy="1042920"/>
          </a:xfrm>
          <a:custGeom>
            <a:avLst/>
            <a:gdLst>
              <a:gd name="textAreaLeft" fmla="*/ 67320 w 2928960"/>
              <a:gd name="textAreaRight" fmla="*/ 2861640 w 292896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60648" h="21600">
                <a:moveTo>
                  <a:pt x="0" y="0"/>
                </a:moveTo>
                <a:lnTo>
                  <a:pt x="60648" y="0"/>
                </a:lnTo>
                <a:lnTo>
                  <a:pt x="60648" y="21600"/>
                </a:lnTo>
                <a:lnTo>
                  <a:pt x="0" y="21600"/>
                </a:lnTo>
                <a:close/>
              </a:path>
              <a:path fill="lightenLess" w="60648" h="21600">
                <a:moveTo>
                  <a:pt x="0" y="0"/>
                </a:moveTo>
                <a:lnTo>
                  <a:pt x="60648" y="0"/>
                </a:lnTo>
                <a:lnTo>
                  <a:pt x="59249" y="1400"/>
                </a:lnTo>
                <a:lnTo>
                  <a:pt x="1400" y="1400"/>
                </a:lnTo>
                <a:close/>
              </a:path>
              <a:path fill="darken" w="60648" h="21600">
                <a:moveTo>
                  <a:pt x="60648" y="0"/>
                </a:moveTo>
                <a:lnTo>
                  <a:pt x="60648" y="21600"/>
                </a:lnTo>
                <a:lnTo>
                  <a:pt x="59249" y="20200"/>
                </a:lnTo>
                <a:lnTo>
                  <a:pt x="59249" y="1400"/>
                </a:lnTo>
                <a:close/>
              </a:path>
              <a:path fill="darkenLess" w="60648" h="21600">
                <a:moveTo>
                  <a:pt x="60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249" y="20200"/>
                </a:lnTo>
                <a:close/>
              </a:path>
              <a:path fill="lighten" w="60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дуард Багриц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240" dur="indefinite" restart="never" nodeType="tmRoot">
          <p:childTnLst>
            <p:seq>
              <p:cTn id="241" restart="whenNotActive" nodeType="interactiveSeq" fill="hold">
                <p:stCondLst>
                  <p:cond evt="onClick">
                    <p:tgtEl>
                      <p:spTgt spid="626"/>
                    </p:tgtEl>
                  </p:cond>
                </p:stCondLst>
                <p:childTnLst>
                  <p:par>
                    <p:cTn id="242" nodeType="clickEffect" fill="hold">
                      <p:stCondLst>
                        <p:cond evt="onClick">
                          <p:tgtEl>
                            <p:spTgt spid="626"/>
                          </p:tgtEl>
                        </p:cond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5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6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689040" y="1616040"/>
            <a:ext cx="744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459c"/>
                </a:solidFill>
                <a:latin typeface="Arial"/>
              </a:rPr>
              <a:t>           </a:t>
            </a:r>
            <a:r>
              <a:rPr b="1" lang="ru-RU" sz="4400" spc="-1" strike="noStrike">
                <a:solidFill>
                  <a:srgbClr val="31459c"/>
                </a:solidFill>
                <a:latin typeface="Arial"/>
              </a:rPr>
              <a:t>Сергей Михал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1459c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  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автор слов гимн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            </a:t>
            </a:r>
            <a:r>
              <a:rPr b="1" lang="ru-RU" sz="3600" spc="-1" strike="noStrike">
                <a:solidFill>
                  <a:srgbClr val="c00000"/>
                </a:solidFill>
                <a:latin typeface="Arial"/>
              </a:rPr>
              <a:t>Российской Федера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5"/>
          <p:cNvSpPr/>
          <p:nvPr/>
        </p:nvSpPr>
        <p:spPr>
          <a:xfrm>
            <a:off x="8096400" y="5905440"/>
            <a:ext cx="747720" cy="690480"/>
          </a:xfrm>
          <a:custGeom>
            <a:avLst/>
            <a:gdLst>
              <a:gd name="textAreaLeft" fmla="*/ 44640 w 747720"/>
              <a:gd name="textAreaRight" fmla="*/ 703080 w 747720"/>
              <a:gd name="textAreaTop" fmla="*/ 44640 h 690480"/>
              <a:gd name="textAreaBottom" fmla="*/ 645840 h 690480"/>
            </a:gdLst>
            <a:ahLst/>
            <a:rect l="textAreaLeft" t="textAreaTop" r="textAreaRight" b="textAreaBottom"/>
            <a:pathLst>
              <a:path w="23390" h="21600">
                <a:moveTo>
                  <a:pt x="0" y="0"/>
                </a:moveTo>
                <a:lnTo>
                  <a:pt x="23390" y="0"/>
                </a:lnTo>
                <a:lnTo>
                  <a:pt x="23390" y="21600"/>
                </a:lnTo>
                <a:lnTo>
                  <a:pt x="0" y="21600"/>
                </a:lnTo>
                <a:close/>
              </a:path>
              <a:path fill="lightenLess" w="23390" h="21600">
                <a:moveTo>
                  <a:pt x="0" y="0"/>
                </a:moveTo>
                <a:lnTo>
                  <a:pt x="23390" y="0"/>
                </a:lnTo>
                <a:lnTo>
                  <a:pt x="21990" y="1400"/>
                </a:lnTo>
                <a:lnTo>
                  <a:pt x="1400" y="1400"/>
                </a:lnTo>
                <a:close/>
              </a:path>
              <a:path fill="darken" w="23390" h="21600">
                <a:moveTo>
                  <a:pt x="23390" y="0"/>
                </a:moveTo>
                <a:lnTo>
                  <a:pt x="23390" y="21600"/>
                </a:lnTo>
                <a:lnTo>
                  <a:pt x="21990" y="20200"/>
                </a:lnTo>
                <a:lnTo>
                  <a:pt x="21990" y="1400"/>
                </a:lnTo>
                <a:close/>
              </a:path>
              <a:path fill="darkenLess" w="23390" h="21600">
                <a:moveTo>
                  <a:pt x="233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0" y="20200"/>
                </a:lnTo>
                <a:close/>
              </a:path>
              <a:path fill="lighten" w="233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390" h="21600">
                <a:moveTo>
                  <a:pt x="4688" y="7493"/>
                </a:moveTo>
                <a:lnTo>
                  <a:pt x="8196" y="7493"/>
                </a:lnTo>
                <a:lnTo>
                  <a:pt x="8196" y="12828"/>
                </a:lnTo>
                <a:cubicBezTo>
                  <a:pt x="8196" y="13751"/>
                  <a:pt x="8997" y="14482"/>
                  <a:pt x="10032" y="14482"/>
                </a:cubicBezTo>
                <a:lnTo>
                  <a:pt x="11695" y="14482"/>
                </a:lnTo>
                <a:cubicBezTo>
                  <a:pt x="12731" y="14482"/>
                  <a:pt x="13531" y="13751"/>
                  <a:pt x="13531" y="12828"/>
                </a:cubicBezTo>
                <a:lnTo>
                  <a:pt x="13531" y="7493"/>
                </a:lnTo>
                <a:lnTo>
                  <a:pt x="11695" y="7493"/>
                </a:lnTo>
                <a:lnTo>
                  <a:pt x="15202" y="3985"/>
                </a:lnTo>
                <a:lnTo>
                  <a:pt x="18875" y="7493"/>
                </a:lnTo>
                <a:lnTo>
                  <a:pt x="17039" y="7493"/>
                </a:lnTo>
                <a:lnTo>
                  <a:pt x="17039" y="12828"/>
                </a:lnTo>
                <a:cubicBezTo>
                  <a:pt x="17039" y="15596"/>
                  <a:pt x="14463" y="18155"/>
                  <a:pt x="11695" y="18155"/>
                </a:cubicBezTo>
                <a:lnTo>
                  <a:pt x="10032" y="18155"/>
                </a:lnTo>
                <a:cubicBezTo>
                  <a:pt x="7265" y="18155"/>
                  <a:pt x="4688" y="15596"/>
                  <a:pt x="4688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8"/>
          <p:cNvSpPr/>
          <p:nvPr/>
        </p:nvSpPr>
        <p:spPr>
          <a:xfrm>
            <a:off x="97488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4"/>
          <p:cNvSpPr/>
          <p:nvPr/>
        </p:nvSpPr>
        <p:spPr>
          <a:xfrm>
            <a:off x="279360" y="865080"/>
            <a:ext cx="8559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гда в России отмеч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 государственного фла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5">
            <a:hlinkClick r:id="rId1"/>
          </p:cNvPr>
          <p:cNvSpPr/>
          <p:nvPr/>
        </p:nvSpPr>
        <p:spPr>
          <a:xfrm>
            <a:off x="3514680" y="3392640"/>
            <a:ext cx="2481480" cy="1042920"/>
          </a:xfrm>
          <a:custGeom>
            <a:avLst/>
            <a:gdLst>
              <a:gd name="textAreaLeft" fmla="*/ 67320 w 2481480"/>
              <a:gd name="textAreaRight" fmla="*/ 2414160 w 248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1384" h="21600">
                <a:moveTo>
                  <a:pt x="0" y="0"/>
                </a:moveTo>
                <a:lnTo>
                  <a:pt x="51384" y="0"/>
                </a:lnTo>
                <a:lnTo>
                  <a:pt x="51384" y="21600"/>
                </a:lnTo>
                <a:lnTo>
                  <a:pt x="0" y="21600"/>
                </a:lnTo>
                <a:close/>
              </a:path>
              <a:path fill="lightenLess" w="51384" h="21600">
                <a:moveTo>
                  <a:pt x="0" y="0"/>
                </a:moveTo>
                <a:lnTo>
                  <a:pt x="51384" y="0"/>
                </a:lnTo>
                <a:lnTo>
                  <a:pt x="49984" y="1400"/>
                </a:lnTo>
                <a:lnTo>
                  <a:pt x="1400" y="1400"/>
                </a:lnTo>
                <a:close/>
              </a:path>
              <a:path fill="darken" w="51384" h="21600">
                <a:moveTo>
                  <a:pt x="51384" y="0"/>
                </a:moveTo>
                <a:lnTo>
                  <a:pt x="51384" y="21600"/>
                </a:lnTo>
                <a:lnTo>
                  <a:pt x="49984" y="20200"/>
                </a:lnTo>
                <a:lnTo>
                  <a:pt x="49984" y="1400"/>
                </a:lnTo>
                <a:close/>
              </a:path>
              <a:path fill="darkenLess" w="51384" h="21600">
                <a:moveTo>
                  <a:pt x="51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84" y="20200"/>
                </a:lnTo>
                <a:close/>
              </a:path>
              <a:path fill="lighten" w="51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2 авгу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6">
            <a:hlinkClick r:id="rId2"/>
          </p:cNvPr>
          <p:cNvSpPr/>
          <p:nvPr/>
        </p:nvSpPr>
        <p:spPr>
          <a:xfrm>
            <a:off x="1330200" y="4902120"/>
            <a:ext cx="2481480" cy="1042920"/>
          </a:xfrm>
          <a:custGeom>
            <a:avLst/>
            <a:gdLst>
              <a:gd name="textAreaLeft" fmla="*/ 67320 w 2481480"/>
              <a:gd name="textAreaRight" fmla="*/ 2414160 w 24814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1384" h="21600">
                <a:moveTo>
                  <a:pt x="0" y="0"/>
                </a:moveTo>
                <a:lnTo>
                  <a:pt x="51384" y="0"/>
                </a:lnTo>
                <a:lnTo>
                  <a:pt x="51384" y="21600"/>
                </a:lnTo>
                <a:lnTo>
                  <a:pt x="0" y="21600"/>
                </a:lnTo>
                <a:close/>
              </a:path>
              <a:path fill="lightenLess" w="51384" h="21600">
                <a:moveTo>
                  <a:pt x="0" y="0"/>
                </a:moveTo>
                <a:lnTo>
                  <a:pt x="51384" y="0"/>
                </a:lnTo>
                <a:lnTo>
                  <a:pt x="49984" y="1400"/>
                </a:lnTo>
                <a:lnTo>
                  <a:pt x="1400" y="1400"/>
                </a:lnTo>
                <a:close/>
              </a:path>
              <a:path fill="darken" w="51384" h="21600">
                <a:moveTo>
                  <a:pt x="51384" y="0"/>
                </a:moveTo>
                <a:lnTo>
                  <a:pt x="51384" y="21600"/>
                </a:lnTo>
                <a:lnTo>
                  <a:pt x="49984" y="20200"/>
                </a:lnTo>
                <a:lnTo>
                  <a:pt x="49984" y="1400"/>
                </a:lnTo>
                <a:close/>
              </a:path>
              <a:path fill="darkenLess" w="51384" h="21600">
                <a:moveTo>
                  <a:pt x="51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84" y="20200"/>
                </a:lnTo>
                <a:close/>
              </a:path>
              <a:path fill="lighten" w="51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2 ию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7">
            <a:hlinkClick r:id="rId3"/>
          </p:cNvPr>
          <p:cNvSpPr/>
          <p:nvPr/>
        </p:nvSpPr>
        <p:spPr>
          <a:xfrm>
            <a:off x="5637240" y="5056200"/>
            <a:ext cx="2481120" cy="1042920"/>
          </a:xfrm>
          <a:custGeom>
            <a:avLst/>
            <a:gdLst>
              <a:gd name="textAreaLeft" fmla="*/ 67320 w 2481120"/>
              <a:gd name="textAreaRight" fmla="*/ 2413800 w 24811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51376" h="21600">
                <a:moveTo>
                  <a:pt x="0" y="0"/>
                </a:moveTo>
                <a:lnTo>
                  <a:pt x="51376" y="0"/>
                </a:lnTo>
                <a:lnTo>
                  <a:pt x="51376" y="21600"/>
                </a:lnTo>
                <a:lnTo>
                  <a:pt x="0" y="21600"/>
                </a:lnTo>
                <a:close/>
              </a:path>
              <a:path fill="lightenLess" w="51376" h="21600">
                <a:moveTo>
                  <a:pt x="0" y="0"/>
                </a:moveTo>
                <a:lnTo>
                  <a:pt x="51376" y="0"/>
                </a:lnTo>
                <a:lnTo>
                  <a:pt x="49976" y="1400"/>
                </a:lnTo>
                <a:lnTo>
                  <a:pt x="1400" y="1400"/>
                </a:lnTo>
                <a:close/>
              </a:path>
              <a:path fill="darken" w="51376" h="21600">
                <a:moveTo>
                  <a:pt x="51376" y="0"/>
                </a:moveTo>
                <a:lnTo>
                  <a:pt x="51376" y="21600"/>
                </a:lnTo>
                <a:lnTo>
                  <a:pt x="49976" y="20200"/>
                </a:lnTo>
                <a:lnTo>
                  <a:pt x="49976" y="1400"/>
                </a:lnTo>
                <a:close/>
              </a:path>
              <a:path fill="darkenLess" w="51376" h="21600">
                <a:moveTo>
                  <a:pt x="513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76" y="20200"/>
                </a:lnTo>
                <a:close/>
              </a:path>
              <a:path fill="lighten" w="513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м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10"/>
          <p:cNvSpPr/>
          <p:nvPr/>
        </p:nvSpPr>
        <p:spPr>
          <a:xfrm>
            <a:off x="641520" y="34128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9"/>
          <p:cNvSpPr/>
          <p:nvPr/>
        </p:nvSpPr>
        <p:spPr>
          <a:xfrm>
            <a:off x="641520" y="34128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1335240" y="1582560"/>
            <a:ext cx="631332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1459c"/>
                </a:solidFill>
                <a:latin typeface="Arial"/>
              </a:rPr>
              <a:t>                 </a:t>
            </a:r>
            <a:r>
              <a:rPr b="1" lang="ru-RU" sz="2800" spc="-1" strike="noStrike">
                <a:solidFill>
                  <a:srgbClr val="31459c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нь        государственного флага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оссии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тмечаетс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1459c"/>
                </a:solidFill>
                <a:latin typeface="Arial"/>
              </a:rPr>
              <a:t>            </a:t>
            </a:r>
            <a:r>
              <a:rPr b="1" lang="ru-RU" sz="4800" spc="-1" strike="noStrike">
                <a:solidFill>
                  <a:srgbClr val="c00000"/>
                </a:solidFill>
                <a:latin typeface="Arial"/>
              </a:rPr>
              <a:t>22 август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7"/>
          <p:cNvSpPr/>
          <p:nvPr/>
        </p:nvSpPr>
        <p:spPr>
          <a:xfrm>
            <a:off x="8032680" y="5838840"/>
            <a:ext cx="738360" cy="738000"/>
          </a:xfrm>
          <a:custGeom>
            <a:avLst/>
            <a:gdLst>
              <a:gd name="textAreaLeft" fmla="*/ 47520 w 738360"/>
              <a:gd name="textAreaRight" fmla="*/ 690840 w 73836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1611" h="21600">
                <a:moveTo>
                  <a:pt x="0" y="0"/>
                </a:moveTo>
                <a:lnTo>
                  <a:pt x="21611" y="0"/>
                </a:lnTo>
                <a:lnTo>
                  <a:pt x="21611" y="21600"/>
                </a:lnTo>
                <a:lnTo>
                  <a:pt x="0" y="21600"/>
                </a:lnTo>
                <a:close/>
              </a:path>
              <a:path fill="lightenLess" w="21611" h="21600">
                <a:moveTo>
                  <a:pt x="0" y="0"/>
                </a:moveTo>
                <a:lnTo>
                  <a:pt x="21611" y="0"/>
                </a:lnTo>
                <a:lnTo>
                  <a:pt x="20211" y="1400"/>
                </a:lnTo>
                <a:lnTo>
                  <a:pt x="1400" y="1400"/>
                </a:lnTo>
                <a:close/>
              </a:path>
              <a:path fill="darken" w="21611" h="21600">
                <a:moveTo>
                  <a:pt x="21611" y="0"/>
                </a:moveTo>
                <a:lnTo>
                  <a:pt x="21611" y="21600"/>
                </a:lnTo>
                <a:lnTo>
                  <a:pt x="20211" y="20200"/>
                </a:lnTo>
                <a:lnTo>
                  <a:pt x="20211" y="1400"/>
                </a:lnTo>
                <a:close/>
              </a:path>
              <a:path fill="darkenLess" w="21611" h="21600">
                <a:moveTo>
                  <a:pt x="216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1" y="20200"/>
                </a:lnTo>
                <a:close/>
              </a:path>
              <a:path fill="lighten" w="216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1" h="21600">
                <a:moveTo>
                  <a:pt x="3799" y="7493"/>
                </a:moveTo>
                <a:lnTo>
                  <a:pt x="7306" y="7493"/>
                </a:lnTo>
                <a:lnTo>
                  <a:pt x="7306" y="12828"/>
                </a:lnTo>
                <a:cubicBezTo>
                  <a:pt x="7306" y="13751"/>
                  <a:pt x="8107" y="14482"/>
                  <a:pt x="9143" y="14482"/>
                </a:cubicBezTo>
                <a:lnTo>
                  <a:pt x="10805" y="14482"/>
                </a:lnTo>
                <a:cubicBezTo>
                  <a:pt x="11841" y="14482"/>
                  <a:pt x="12642" y="13751"/>
                  <a:pt x="12642" y="12828"/>
                </a:cubicBezTo>
                <a:lnTo>
                  <a:pt x="12642" y="7493"/>
                </a:lnTo>
                <a:lnTo>
                  <a:pt x="10805" y="7493"/>
                </a:lnTo>
                <a:lnTo>
                  <a:pt x="14313" y="3985"/>
                </a:lnTo>
                <a:lnTo>
                  <a:pt x="17986" y="7493"/>
                </a:lnTo>
                <a:lnTo>
                  <a:pt x="16149" y="7493"/>
                </a:lnTo>
                <a:lnTo>
                  <a:pt x="16149" y="12828"/>
                </a:lnTo>
                <a:cubicBezTo>
                  <a:pt x="16149" y="15596"/>
                  <a:pt x="13573" y="18155"/>
                  <a:pt x="10805" y="18155"/>
                </a:cubicBezTo>
                <a:lnTo>
                  <a:pt x="9143" y="18155"/>
                </a:lnTo>
                <a:cubicBezTo>
                  <a:pt x="6375" y="18155"/>
                  <a:pt x="3799" y="15596"/>
                  <a:pt x="379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500040" y="15235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6f3fa"/>
                </a:solidFill>
                <a:latin typeface="Times New Roman"/>
                <a:ea typeface="Times New Roman"/>
              </a:rPr>
              <a:t>Поздравляем знатоков основного закона государства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3"/>
          <p:cNvSpPr/>
          <p:nvPr/>
        </p:nvSpPr>
        <p:spPr>
          <a:xfrm>
            <a:off x="814320" y="37944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5324760" y="230040"/>
            <a:ext cx="305028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5"/>
          <p:cNvSpPr/>
          <p:nvPr/>
        </p:nvSpPr>
        <p:spPr>
          <a:xfrm>
            <a:off x="1028880" y="652320"/>
            <a:ext cx="7530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Назовите основной закон государств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>
            <a:hlinkClick r:id="rId1"/>
          </p:cNvPr>
          <p:cNvSpPr/>
          <p:nvPr/>
        </p:nvSpPr>
        <p:spPr>
          <a:xfrm>
            <a:off x="1271520" y="3051000"/>
            <a:ext cx="1909800" cy="852840"/>
          </a:xfrm>
          <a:custGeom>
            <a:avLst/>
            <a:gdLst>
              <a:gd name="textAreaLeft" fmla="*/ 55080 w 1909800"/>
              <a:gd name="textAreaRight" fmla="*/ 1854720 w 1909800"/>
              <a:gd name="textAreaTop" fmla="*/ 55080 h 852840"/>
              <a:gd name="textAreaBottom" fmla="*/ 797760 h 852840"/>
            </a:gdLst>
            <a:ahLst/>
            <a:rect l="textAreaLeft" t="textAreaTop" r="textAreaRight" b="textAreaBottom"/>
            <a:pathLst>
              <a:path w="48358" h="21600">
                <a:moveTo>
                  <a:pt x="0" y="0"/>
                </a:moveTo>
                <a:lnTo>
                  <a:pt x="48358" y="0"/>
                </a:lnTo>
                <a:lnTo>
                  <a:pt x="48358" y="21600"/>
                </a:lnTo>
                <a:lnTo>
                  <a:pt x="0" y="21600"/>
                </a:lnTo>
                <a:close/>
              </a:path>
              <a:path fill="lightenLess" w="48358" h="21600">
                <a:moveTo>
                  <a:pt x="0" y="0"/>
                </a:moveTo>
                <a:lnTo>
                  <a:pt x="48358" y="0"/>
                </a:lnTo>
                <a:lnTo>
                  <a:pt x="46959" y="1400"/>
                </a:lnTo>
                <a:lnTo>
                  <a:pt x="1400" y="1400"/>
                </a:lnTo>
                <a:close/>
              </a:path>
              <a:path fill="darken" w="48358" h="21600">
                <a:moveTo>
                  <a:pt x="48358" y="0"/>
                </a:moveTo>
                <a:lnTo>
                  <a:pt x="48358" y="21600"/>
                </a:lnTo>
                <a:lnTo>
                  <a:pt x="46959" y="20200"/>
                </a:lnTo>
                <a:lnTo>
                  <a:pt x="46959" y="1400"/>
                </a:lnTo>
                <a:close/>
              </a:path>
              <a:path fill="darkenLess" w="48358" h="21600">
                <a:moveTo>
                  <a:pt x="483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959" y="20200"/>
                </a:lnTo>
                <a:close/>
              </a:path>
              <a:path fill="lighten" w="483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руп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>
            <a:hlinkClick r:id="rId2"/>
          </p:cNvPr>
          <p:cNvSpPr/>
          <p:nvPr/>
        </p:nvSpPr>
        <p:spPr>
          <a:xfrm>
            <a:off x="3073320" y="4221000"/>
            <a:ext cx="2471760" cy="871560"/>
          </a:xfrm>
          <a:custGeom>
            <a:avLst/>
            <a:gdLst>
              <a:gd name="textAreaLeft" fmla="*/ 56160 w 2471760"/>
              <a:gd name="textAreaRight" fmla="*/ 2415600 w 2471760"/>
              <a:gd name="textAreaTop" fmla="*/ 56160 h 871560"/>
              <a:gd name="textAreaBottom" fmla="*/ 815400 h 871560"/>
            </a:gdLst>
            <a:ahLst/>
            <a:rect l="textAreaLeft" t="textAreaTop" r="textAreaRight" b="textAreaBottom"/>
            <a:pathLst>
              <a:path w="61242" h="21600">
                <a:moveTo>
                  <a:pt x="0" y="0"/>
                </a:moveTo>
                <a:lnTo>
                  <a:pt x="61242" y="0"/>
                </a:lnTo>
                <a:lnTo>
                  <a:pt x="61242" y="21600"/>
                </a:lnTo>
                <a:lnTo>
                  <a:pt x="0" y="21600"/>
                </a:lnTo>
                <a:close/>
              </a:path>
              <a:path fill="lightenLess" w="61242" h="21600">
                <a:moveTo>
                  <a:pt x="0" y="0"/>
                </a:moveTo>
                <a:lnTo>
                  <a:pt x="61242" y="0"/>
                </a:lnTo>
                <a:lnTo>
                  <a:pt x="59842" y="1400"/>
                </a:lnTo>
                <a:lnTo>
                  <a:pt x="1400" y="1400"/>
                </a:lnTo>
                <a:close/>
              </a:path>
              <a:path fill="darken" w="61242" h="21600">
                <a:moveTo>
                  <a:pt x="61242" y="0"/>
                </a:moveTo>
                <a:lnTo>
                  <a:pt x="61242" y="21600"/>
                </a:lnTo>
                <a:lnTo>
                  <a:pt x="59842" y="20200"/>
                </a:lnTo>
                <a:lnTo>
                  <a:pt x="59842" y="1400"/>
                </a:lnTo>
                <a:close/>
              </a:path>
              <a:path fill="darkenLess" w="61242" h="21600">
                <a:moveTo>
                  <a:pt x="612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42" y="20200"/>
                </a:lnTo>
                <a:close/>
              </a:path>
              <a:path fill="lighten" w="612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федер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>
            <a:hlinkClick r:id="rId3" action="ppaction://hlinksldjump"/>
          </p:cNvPr>
          <p:cNvSpPr/>
          <p:nvPr/>
        </p:nvSpPr>
        <p:spPr>
          <a:xfrm>
            <a:off x="5232240" y="5375160"/>
            <a:ext cx="2167200" cy="881280"/>
          </a:xfrm>
          <a:custGeom>
            <a:avLst/>
            <a:gdLst>
              <a:gd name="textAreaLeft" fmla="*/ 56880 w 2167200"/>
              <a:gd name="textAreaRight" fmla="*/ 2110320 w 2167200"/>
              <a:gd name="textAreaTop" fmla="*/ 56880 h 881280"/>
              <a:gd name="textAreaBottom" fmla="*/ 824400 h 881280"/>
            </a:gdLst>
            <a:ahLst/>
            <a:rect l="textAreaLeft" t="textAreaTop" r="textAreaRight" b="textAreaBottom"/>
            <a:pathLst>
              <a:path w="53105" h="21600">
                <a:moveTo>
                  <a:pt x="0" y="0"/>
                </a:moveTo>
                <a:lnTo>
                  <a:pt x="53105" y="0"/>
                </a:lnTo>
                <a:lnTo>
                  <a:pt x="53105" y="21600"/>
                </a:lnTo>
                <a:lnTo>
                  <a:pt x="0" y="21600"/>
                </a:lnTo>
                <a:close/>
              </a:path>
              <a:path fill="lightenLess" w="53105" h="21600">
                <a:moveTo>
                  <a:pt x="0" y="0"/>
                </a:moveTo>
                <a:lnTo>
                  <a:pt x="53105" y="0"/>
                </a:lnTo>
                <a:lnTo>
                  <a:pt x="51705" y="1400"/>
                </a:lnTo>
                <a:lnTo>
                  <a:pt x="1400" y="1400"/>
                </a:lnTo>
                <a:close/>
              </a:path>
              <a:path fill="darken" w="53105" h="21600">
                <a:moveTo>
                  <a:pt x="53105" y="0"/>
                </a:moveTo>
                <a:lnTo>
                  <a:pt x="53105" y="21600"/>
                </a:lnTo>
                <a:lnTo>
                  <a:pt x="51705" y="20200"/>
                </a:lnTo>
                <a:lnTo>
                  <a:pt x="51705" y="1400"/>
                </a:lnTo>
                <a:close/>
              </a:path>
              <a:path fill="darkenLess" w="53105" h="21600">
                <a:moveTo>
                  <a:pt x="531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05" y="20200"/>
                </a:lnTo>
                <a:close/>
              </a:path>
              <a:path fill="lighten" w="531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онститу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157320" y="301680"/>
            <a:ext cx="91440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С праздником,</a:t>
            </a:r>
            <a:br>
              <a:rPr sz="5400"/>
            </a:br>
            <a:r>
              <a:rPr b="1" lang="ru-RU" sz="5400" spc="-1" strike="noStrike">
                <a:solidFill>
                  <a:srgbClr val="c00000"/>
                </a:solidFill>
                <a:latin typeface="Arial"/>
              </a:rPr>
              <a:t> Днём Конституции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2975040" y="2409840"/>
            <a:ext cx="5864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Поздравляю вас с Дн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f3fa"/>
                </a:solidFill>
                <a:latin typeface="Times New Roman"/>
              </a:rPr>
              <a:t>                                     </a:t>
            </a: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Конституци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И желаю, чтоб нашу стра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Обошли стороной революци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Чтоб она не познала войн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Пусть живет, процветает Велик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Наша Родина, гордость и чес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Неприятели пусть многолик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6f3fa"/>
                </a:solidFill>
                <a:latin typeface="Times New Roman"/>
              </a:rPr>
              <a:t>Позабудут коварство и ле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4321080" y="4497480"/>
            <a:ext cx="4484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rcRect l="0" t="0" r="4179" b="2942"/>
          <a:stretch/>
        </p:blipFill>
        <p:spPr>
          <a:xfrm>
            <a:off x="189000" y="2593800"/>
            <a:ext cx="2597040" cy="3589560"/>
          </a:xfrm>
          <a:prstGeom prst="rect">
            <a:avLst/>
          </a:prstGeom>
          <a:ln w="0">
            <a:noFill/>
          </a:ln>
        </p:spPr>
      </p:pic>
      <p:sp>
        <p:nvSpPr>
          <p:cNvPr id="647" name="Text Box 6"/>
          <p:cNvSpPr/>
          <p:nvPr/>
        </p:nvSpPr>
        <p:spPr>
          <a:xfrm>
            <a:off x="4473720" y="4649760"/>
            <a:ext cx="4484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AutoShape 2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4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800280" y="37944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995480" y="566640"/>
            <a:ext cx="529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Arial"/>
              </a:rPr>
              <a:t>Конститу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6"/>
          <p:cNvSpPr/>
          <p:nvPr/>
        </p:nvSpPr>
        <p:spPr>
          <a:xfrm>
            <a:off x="8153280" y="6039000"/>
            <a:ext cx="804960" cy="699840"/>
          </a:xfrm>
          <a:custGeom>
            <a:avLst/>
            <a:gdLst>
              <a:gd name="textAreaLeft" fmla="*/ 45360 w 804960"/>
              <a:gd name="textAreaRight" fmla="*/ 759600 w 804960"/>
              <a:gd name="textAreaTop" fmla="*/ 45360 h 699840"/>
              <a:gd name="textAreaBottom" fmla="*/ 654480 h 699840"/>
            </a:gdLst>
            <a:ahLst/>
            <a:rect l="textAreaLeft" t="textAreaTop" r="textAreaRight" b="textAreaBottom"/>
            <a:pathLst>
              <a:path w="24843" h="21600">
                <a:moveTo>
                  <a:pt x="0" y="0"/>
                </a:moveTo>
                <a:lnTo>
                  <a:pt x="24843" y="0"/>
                </a:lnTo>
                <a:lnTo>
                  <a:pt x="24843" y="21600"/>
                </a:lnTo>
                <a:lnTo>
                  <a:pt x="0" y="21600"/>
                </a:lnTo>
                <a:close/>
              </a:path>
              <a:path fill="lightenLess" w="24843" h="21600">
                <a:moveTo>
                  <a:pt x="0" y="0"/>
                </a:moveTo>
                <a:lnTo>
                  <a:pt x="24843" y="0"/>
                </a:lnTo>
                <a:lnTo>
                  <a:pt x="23443" y="1400"/>
                </a:lnTo>
                <a:lnTo>
                  <a:pt x="1400" y="1400"/>
                </a:lnTo>
                <a:close/>
              </a:path>
              <a:path fill="darken" w="24843" h="21600">
                <a:moveTo>
                  <a:pt x="24843" y="0"/>
                </a:moveTo>
                <a:lnTo>
                  <a:pt x="24843" y="21600"/>
                </a:lnTo>
                <a:lnTo>
                  <a:pt x="23443" y="20200"/>
                </a:lnTo>
                <a:lnTo>
                  <a:pt x="23443" y="1400"/>
                </a:lnTo>
                <a:close/>
              </a:path>
              <a:path fill="darkenLess" w="24843" h="21600">
                <a:moveTo>
                  <a:pt x="24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43" y="20200"/>
                </a:lnTo>
                <a:close/>
              </a:path>
              <a:path fill="lighten" w="24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43" h="21600">
                <a:moveTo>
                  <a:pt x="5415" y="7493"/>
                </a:moveTo>
                <a:lnTo>
                  <a:pt x="8922" y="7493"/>
                </a:lnTo>
                <a:lnTo>
                  <a:pt x="8922" y="12828"/>
                </a:lnTo>
                <a:cubicBezTo>
                  <a:pt x="8922" y="13751"/>
                  <a:pt x="9723" y="14482"/>
                  <a:pt x="10759" y="14482"/>
                </a:cubicBezTo>
                <a:lnTo>
                  <a:pt x="12421" y="14482"/>
                </a:lnTo>
                <a:cubicBezTo>
                  <a:pt x="13457" y="14482"/>
                  <a:pt x="14258" y="13751"/>
                  <a:pt x="14258" y="12828"/>
                </a:cubicBezTo>
                <a:lnTo>
                  <a:pt x="14258" y="7493"/>
                </a:lnTo>
                <a:lnTo>
                  <a:pt x="12421" y="7493"/>
                </a:lnTo>
                <a:lnTo>
                  <a:pt x="15929" y="3985"/>
                </a:lnTo>
                <a:lnTo>
                  <a:pt x="19602" y="7493"/>
                </a:lnTo>
                <a:lnTo>
                  <a:pt x="17765" y="7493"/>
                </a:lnTo>
                <a:lnTo>
                  <a:pt x="17765" y="12828"/>
                </a:lnTo>
                <a:cubicBezTo>
                  <a:pt x="17765" y="15596"/>
                  <a:pt x="15189" y="18155"/>
                  <a:pt x="12421" y="18155"/>
                </a:cubicBezTo>
                <a:lnTo>
                  <a:pt x="10759" y="18155"/>
                </a:lnTo>
                <a:cubicBezTo>
                  <a:pt x="7991" y="18155"/>
                  <a:pt x="5415" y="15596"/>
                  <a:pt x="5415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8" descr="0017-014-Konstitutsija-RF"/>
          <p:cNvPicPr/>
          <p:nvPr/>
        </p:nvPicPr>
        <p:blipFill>
          <a:blip r:embed="rId1"/>
          <a:stretch/>
        </p:blipFill>
        <p:spPr>
          <a:xfrm>
            <a:off x="3255840" y="2028960"/>
            <a:ext cx="2805120" cy="3909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8"/>
          <p:cNvSpPr/>
          <p:nvPr/>
        </p:nvSpPr>
        <p:spPr>
          <a:xfrm>
            <a:off x="871560" y="23976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1030320" y="625320"/>
            <a:ext cx="698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2f69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Сколько лет прошло с момента    принятия последн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       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Конститу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нашего государств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5">
            <a:hlinkClick r:id="rId1"/>
          </p:cNvPr>
          <p:cNvSpPr/>
          <p:nvPr/>
        </p:nvSpPr>
        <p:spPr>
          <a:xfrm>
            <a:off x="1457280" y="415296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6">
            <a:hlinkClick r:id="rId2"/>
          </p:cNvPr>
          <p:cNvSpPr/>
          <p:nvPr/>
        </p:nvSpPr>
        <p:spPr>
          <a:xfrm>
            <a:off x="3873600" y="4168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14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1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7">
            <a:hlinkClick r:id="rId3"/>
          </p:cNvPr>
          <p:cNvSpPr/>
          <p:nvPr/>
        </p:nvSpPr>
        <p:spPr>
          <a:xfrm>
            <a:off x="6404040" y="420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09" dur="indefinite" restart="never" nodeType="tmRoot">
          <p:childTnLst>
            <p:seq>
              <p:cTn id="110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111" nodeType="clickEffect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9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1033560" y="297000"/>
            <a:ext cx="748800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980080" y="635040"/>
            <a:ext cx="392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212f69"/>
                </a:solidFill>
                <a:latin typeface="Arial"/>
              </a:rPr>
              <a:t>27 ле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6"/>
          <p:cNvSpPr/>
          <p:nvPr/>
        </p:nvSpPr>
        <p:spPr>
          <a:xfrm>
            <a:off x="7972560" y="5743440"/>
            <a:ext cx="785520" cy="776520"/>
          </a:xfrm>
          <a:custGeom>
            <a:avLst/>
            <a:gdLst>
              <a:gd name="textAreaLeft" fmla="*/ 50040 w 785520"/>
              <a:gd name="textAreaRight" fmla="*/ 735480 w 785520"/>
              <a:gd name="textAreaTop" fmla="*/ 50040 h 776520"/>
              <a:gd name="textAreaBottom" fmla="*/ 726480 h 77652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20450" y="1400"/>
                </a:lnTo>
                <a:lnTo>
                  <a:pt x="1400" y="1400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20450" y="20200"/>
                </a:lnTo>
                <a:lnTo>
                  <a:pt x="20450" y="1400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50" y="20200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850" h="21600">
                <a:moveTo>
                  <a:pt x="3919" y="7493"/>
                </a:moveTo>
                <a:lnTo>
                  <a:pt x="7426" y="7493"/>
                </a:lnTo>
                <a:lnTo>
                  <a:pt x="7426" y="12828"/>
                </a:lnTo>
                <a:cubicBezTo>
                  <a:pt x="7426" y="13751"/>
                  <a:pt x="8227" y="14482"/>
                  <a:pt x="9263" y="14482"/>
                </a:cubicBezTo>
                <a:lnTo>
                  <a:pt x="10925" y="14482"/>
                </a:lnTo>
                <a:cubicBezTo>
                  <a:pt x="11961" y="14482"/>
                  <a:pt x="12762" y="13751"/>
                  <a:pt x="12762" y="12828"/>
                </a:cubicBezTo>
                <a:lnTo>
                  <a:pt x="12762" y="7493"/>
                </a:lnTo>
                <a:lnTo>
                  <a:pt x="10925" y="7493"/>
                </a:lnTo>
                <a:lnTo>
                  <a:pt x="14433" y="3985"/>
                </a:lnTo>
                <a:lnTo>
                  <a:pt x="18106" y="7493"/>
                </a:lnTo>
                <a:lnTo>
                  <a:pt x="16269" y="7493"/>
                </a:lnTo>
                <a:lnTo>
                  <a:pt x="16269" y="12828"/>
                </a:lnTo>
                <a:cubicBezTo>
                  <a:pt x="16269" y="15596"/>
                  <a:pt x="13693" y="18155"/>
                  <a:pt x="10925" y="18155"/>
                </a:cubicBezTo>
                <a:lnTo>
                  <a:pt x="9263" y="18155"/>
                </a:lnTo>
                <a:cubicBezTo>
                  <a:pt x="6495" y="18155"/>
                  <a:pt x="3919" y="15596"/>
                  <a:pt x="391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0017-014-Konstitutsija-RF"/>
          <p:cNvPicPr/>
          <p:nvPr/>
        </p:nvPicPr>
        <p:blipFill>
          <a:blip r:embed="rId1"/>
          <a:stretch/>
        </p:blipFill>
        <p:spPr>
          <a:xfrm>
            <a:off x="3532320" y="2390760"/>
            <a:ext cx="2805120" cy="39099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9"/>
          <p:cNvSpPr/>
          <p:nvPr/>
        </p:nvSpPr>
        <p:spPr>
          <a:xfrm>
            <a:off x="685800" y="355680"/>
            <a:ext cx="7488360" cy="6284880"/>
          </a:xfrm>
          <a:prstGeom prst="rect">
            <a:avLst/>
          </a:prstGeom>
          <a:solidFill>
            <a:srgbClr val="efebf7">
              <a:alpha val="77000"/>
            </a:srgbClr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4267080" y="1127160"/>
            <a:ext cx="23148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3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560880" y="838080"/>
            <a:ext cx="740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Сколько изданий Конститу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212f69"/>
                </a:solidFill>
                <a:latin typeface="Arial"/>
              </a:rPr>
              <a:t>насчитывает  наше государство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6">
            <a:hlinkClick r:id="rId1"/>
          </p:cNvPr>
          <p:cNvSpPr/>
          <p:nvPr/>
        </p:nvSpPr>
        <p:spPr>
          <a:xfrm>
            <a:off x="1746360" y="2765520"/>
            <a:ext cx="900000" cy="890640"/>
          </a:xfrm>
          <a:custGeom>
            <a:avLst/>
            <a:gdLst>
              <a:gd name="textAreaLeft" fmla="*/ 57600 w 900000"/>
              <a:gd name="textAreaRight" fmla="*/ 842400 w 9000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1827" h="21600">
                <a:moveTo>
                  <a:pt x="0" y="0"/>
                </a:moveTo>
                <a:lnTo>
                  <a:pt x="21827" y="0"/>
                </a:lnTo>
                <a:lnTo>
                  <a:pt x="21827" y="21600"/>
                </a:lnTo>
                <a:lnTo>
                  <a:pt x="0" y="21600"/>
                </a:lnTo>
                <a:close/>
              </a:path>
              <a:path fill="lightenLess" w="21827" h="21600">
                <a:moveTo>
                  <a:pt x="0" y="0"/>
                </a:moveTo>
                <a:lnTo>
                  <a:pt x="21827" y="0"/>
                </a:lnTo>
                <a:lnTo>
                  <a:pt x="20427" y="1400"/>
                </a:lnTo>
                <a:lnTo>
                  <a:pt x="1400" y="1400"/>
                </a:lnTo>
                <a:close/>
              </a:path>
              <a:path fill="darken" w="21827" h="21600">
                <a:moveTo>
                  <a:pt x="21827" y="0"/>
                </a:moveTo>
                <a:lnTo>
                  <a:pt x="21827" y="21600"/>
                </a:lnTo>
                <a:lnTo>
                  <a:pt x="20427" y="20200"/>
                </a:lnTo>
                <a:lnTo>
                  <a:pt x="20427" y="1400"/>
                </a:lnTo>
                <a:close/>
              </a:path>
              <a:path fill="darkenLess" w="21827" h="21600">
                <a:moveTo>
                  <a:pt x="218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427" y="20200"/>
                </a:lnTo>
                <a:close/>
              </a:path>
              <a:path fill="lighten" w="218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1459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7">
            <a:hlinkClick r:id="rId2"/>
          </p:cNvPr>
          <p:cNvSpPr/>
          <p:nvPr/>
        </p:nvSpPr>
        <p:spPr>
          <a:xfrm>
            <a:off x="1716120" y="3855960"/>
            <a:ext cx="900000" cy="824040"/>
          </a:xfrm>
          <a:custGeom>
            <a:avLst/>
            <a:gdLst>
              <a:gd name="textAreaLeft" fmla="*/ 53280 w 900000"/>
              <a:gd name="textAreaRight" fmla="*/ 846720 w 900000"/>
              <a:gd name="textAreaTop" fmla="*/ 53280 h 824040"/>
              <a:gd name="textAreaBottom" fmla="*/ 770760 h 824040"/>
            </a:gdLst>
            <a:ahLst/>
            <a:rect l="textAreaLeft" t="textAreaTop" r="textAreaRight" b="textAreaBottom"/>
            <a:pathLst>
              <a:path w="23590" h="21600">
                <a:moveTo>
                  <a:pt x="0" y="0"/>
                </a:moveTo>
                <a:lnTo>
                  <a:pt x="23590" y="0"/>
                </a:lnTo>
                <a:lnTo>
                  <a:pt x="23590" y="21600"/>
                </a:lnTo>
                <a:lnTo>
                  <a:pt x="0" y="21600"/>
                </a:lnTo>
                <a:close/>
              </a:path>
              <a:path fill="lightenLess" w="23590" h="21600">
                <a:moveTo>
                  <a:pt x="0" y="0"/>
                </a:moveTo>
                <a:lnTo>
                  <a:pt x="23590" y="0"/>
                </a:lnTo>
                <a:lnTo>
                  <a:pt x="22190" y="1400"/>
                </a:lnTo>
                <a:lnTo>
                  <a:pt x="1400" y="1400"/>
                </a:lnTo>
                <a:close/>
              </a:path>
              <a:path fill="darken" w="23590" h="21600">
                <a:moveTo>
                  <a:pt x="23590" y="0"/>
                </a:moveTo>
                <a:lnTo>
                  <a:pt x="23590" y="21600"/>
                </a:lnTo>
                <a:lnTo>
                  <a:pt x="22190" y="20200"/>
                </a:lnTo>
                <a:lnTo>
                  <a:pt x="22190" y="1400"/>
                </a:lnTo>
                <a:close/>
              </a:path>
              <a:path fill="darkenLess" w="23590" h="21600">
                <a:moveTo>
                  <a:pt x="2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0" y="20200"/>
                </a:lnTo>
                <a:close/>
              </a:path>
              <a:path fill="lighten" w="2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8">
            <a:hlinkClick r:id="rId3"/>
          </p:cNvPr>
          <p:cNvSpPr/>
          <p:nvPr/>
        </p:nvSpPr>
        <p:spPr>
          <a:xfrm>
            <a:off x="1751040" y="5043600"/>
            <a:ext cx="880920" cy="909360"/>
          </a:xfrm>
          <a:custGeom>
            <a:avLst/>
            <a:gdLst>
              <a:gd name="textAreaLeft" fmla="*/ 56880 w 880920"/>
              <a:gd name="textAreaRight" fmla="*/ 824040 w 880920"/>
              <a:gd name="textAreaTop" fmla="*/ 56880 h 909360"/>
              <a:gd name="textAreaBottom" fmla="*/ 852480 h 909360"/>
            </a:gdLst>
            <a:ahLst/>
            <a:rect l="textAreaLeft" t="textAreaTop" r="textAreaRight" b="textAreaBottom"/>
            <a:pathLst>
              <a:path w="21600" h="22297">
                <a:moveTo>
                  <a:pt x="0" y="0"/>
                </a:moveTo>
                <a:lnTo>
                  <a:pt x="21600" y="0"/>
                </a:lnTo>
                <a:lnTo>
                  <a:pt x="21600" y="22297"/>
                </a:lnTo>
                <a:lnTo>
                  <a:pt x="0" y="22297"/>
                </a:lnTo>
                <a:close/>
              </a:path>
              <a:path fill="lightenLess" w="21600" h="222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297">
                <a:moveTo>
                  <a:pt x="21600" y="0"/>
                </a:moveTo>
                <a:lnTo>
                  <a:pt x="21600" y="22297"/>
                </a:lnTo>
                <a:lnTo>
                  <a:pt x="20200" y="20897"/>
                </a:lnTo>
                <a:lnTo>
                  <a:pt x="20200" y="1400"/>
                </a:lnTo>
                <a:close/>
              </a:path>
              <a:path fill="darkenLess" w="21600" h="22297">
                <a:moveTo>
                  <a:pt x="21600" y="22297"/>
                </a:moveTo>
                <a:lnTo>
                  <a:pt x="0" y="22297"/>
                </a:lnTo>
                <a:lnTo>
                  <a:pt x="1400" y="20897"/>
                </a:lnTo>
                <a:lnTo>
                  <a:pt x="20200" y="20897"/>
                </a:lnTo>
                <a:close/>
              </a:path>
              <a:path fill="lighten" w="21600" h="22297">
                <a:moveTo>
                  <a:pt x="0" y="222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89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febf7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pull dir="r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4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4" descr="220px-Обложка_Конституции_РСФСР_1918_года"/>
          <p:cNvPicPr/>
          <p:nvPr/>
        </p:nvPicPr>
        <p:blipFill>
          <a:blip r:embed="rId1"/>
          <a:stretch/>
        </p:blipFill>
        <p:spPr>
          <a:xfrm>
            <a:off x="250920" y="0"/>
            <a:ext cx="2408040" cy="3513240"/>
          </a:xfrm>
          <a:prstGeom prst="rect">
            <a:avLst/>
          </a:prstGeom>
          <a:ln w="0">
            <a:noFill/>
          </a:ln>
        </p:spPr>
      </p:pic>
      <p:sp>
        <p:nvSpPr>
          <p:cNvPr id="545" name="AutoShape 10"/>
          <p:cNvSpPr/>
          <p:nvPr/>
        </p:nvSpPr>
        <p:spPr>
          <a:xfrm>
            <a:off x="7962840" y="5800680"/>
            <a:ext cx="900000" cy="824040"/>
          </a:xfrm>
          <a:custGeom>
            <a:avLst/>
            <a:gdLst>
              <a:gd name="textAreaLeft" fmla="*/ 53280 w 900000"/>
              <a:gd name="textAreaRight" fmla="*/ 846720 w 900000"/>
              <a:gd name="textAreaTop" fmla="*/ 53280 h 824040"/>
              <a:gd name="textAreaBottom" fmla="*/ 770760 h 824040"/>
            </a:gdLst>
            <a:ahLst/>
            <a:rect l="textAreaLeft" t="textAreaTop" r="textAreaRight" b="textAreaBottom"/>
            <a:pathLst>
              <a:path w="23590" h="21600">
                <a:moveTo>
                  <a:pt x="0" y="0"/>
                </a:moveTo>
                <a:lnTo>
                  <a:pt x="23590" y="0"/>
                </a:lnTo>
                <a:lnTo>
                  <a:pt x="23590" y="21600"/>
                </a:lnTo>
                <a:lnTo>
                  <a:pt x="0" y="21600"/>
                </a:lnTo>
                <a:close/>
              </a:path>
              <a:path fill="lightenLess" w="23590" h="21600">
                <a:moveTo>
                  <a:pt x="0" y="0"/>
                </a:moveTo>
                <a:lnTo>
                  <a:pt x="23590" y="0"/>
                </a:lnTo>
                <a:lnTo>
                  <a:pt x="22190" y="1400"/>
                </a:lnTo>
                <a:lnTo>
                  <a:pt x="1400" y="1400"/>
                </a:lnTo>
                <a:close/>
              </a:path>
              <a:path fill="darken" w="23590" h="21600">
                <a:moveTo>
                  <a:pt x="23590" y="0"/>
                </a:moveTo>
                <a:lnTo>
                  <a:pt x="23590" y="21600"/>
                </a:lnTo>
                <a:lnTo>
                  <a:pt x="22190" y="20200"/>
                </a:lnTo>
                <a:lnTo>
                  <a:pt x="22190" y="1400"/>
                </a:lnTo>
                <a:close/>
              </a:path>
              <a:path fill="darkenLess" w="23590" h="21600">
                <a:moveTo>
                  <a:pt x="235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90" y="20200"/>
                </a:lnTo>
                <a:close/>
              </a:path>
              <a:path fill="lighten" w="235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90" h="21600">
                <a:moveTo>
                  <a:pt x="4789" y="7493"/>
                </a:moveTo>
                <a:lnTo>
                  <a:pt x="8296" y="7493"/>
                </a:lnTo>
                <a:lnTo>
                  <a:pt x="8296" y="12828"/>
                </a:lnTo>
                <a:cubicBezTo>
                  <a:pt x="8296" y="13751"/>
                  <a:pt x="9097" y="14482"/>
                  <a:pt x="10133" y="14482"/>
                </a:cubicBezTo>
                <a:lnTo>
                  <a:pt x="11795" y="14482"/>
                </a:lnTo>
                <a:cubicBezTo>
                  <a:pt x="12831" y="14482"/>
                  <a:pt x="13632" y="13751"/>
                  <a:pt x="13632" y="12828"/>
                </a:cubicBezTo>
                <a:lnTo>
                  <a:pt x="13632" y="7493"/>
                </a:lnTo>
                <a:lnTo>
                  <a:pt x="11795" y="7493"/>
                </a:lnTo>
                <a:lnTo>
                  <a:pt x="15303" y="3985"/>
                </a:lnTo>
                <a:lnTo>
                  <a:pt x="18976" y="7493"/>
                </a:lnTo>
                <a:lnTo>
                  <a:pt x="17139" y="7493"/>
                </a:lnTo>
                <a:lnTo>
                  <a:pt x="17139" y="12828"/>
                </a:lnTo>
                <a:cubicBezTo>
                  <a:pt x="17139" y="15596"/>
                  <a:pt x="14563" y="18155"/>
                  <a:pt x="11795" y="18155"/>
                </a:cubicBezTo>
                <a:lnTo>
                  <a:pt x="10133" y="18155"/>
                </a:lnTo>
                <a:cubicBezTo>
                  <a:pt x="7365" y="18155"/>
                  <a:pt x="4789" y="15596"/>
                  <a:pt x="4789" y="12828"/>
                </a:cubicBezTo>
                <a:close/>
              </a:path>
            </a:pathLst>
          </a:custGeom>
          <a:solidFill>
            <a:srgbClr val="ef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11" descr="12_const_1924"/>
          <p:cNvPicPr/>
          <p:nvPr/>
        </p:nvPicPr>
        <p:blipFill>
          <a:blip r:embed="rId2"/>
          <a:stretch/>
        </p:blipFill>
        <p:spPr>
          <a:xfrm>
            <a:off x="5745240" y="198360"/>
            <a:ext cx="2908080" cy="371340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0017-014-Konstitutsija-RF"/>
          <p:cNvPicPr/>
          <p:nvPr/>
        </p:nvPicPr>
        <p:blipFill>
          <a:blip r:embed="rId3"/>
          <a:stretch/>
        </p:blipFill>
        <p:spPr>
          <a:xfrm>
            <a:off x="2835360" y="185760"/>
            <a:ext cx="2805120" cy="39099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3" descr="5509c7fc55971ad8eed3483677b"/>
          <p:cNvPicPr/>
          <p:nvPr/>
        </p:nvPicPr>
        <p:blipFill>
          <a:blip r:embed="rId4"/>
          <a:stretch/>
        </p:blipFill>
        <p:spPr>
          <a:xfrm>
            <a:off x="501480" y="2770200"/>
            <a:ext cx="2746440" cy="4087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5" descr="64588_original"/>
          <p:cNvPicPr/>
          <p:nvPr/>
        </p:nvPicPr>
        <p:blipFill>
          <a:blip r:embed="rId5"/>
          <a:stretch/>
        </p:blipFill>
        <p:spPr>
          <a:xfrm>
            <a:off x="4392720" y="3301920"/>
            <a:ext cx="2463840" cy="33670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User</cp:lastModifiedBy>
  <dcterms:modified xsi:type="dcterms:W3CDTF">2020-12-07T04:46:02Z</dcterms:modified>
  <cp:revision>99</cp:revision>
  <dc:subject/>
  <dc:title>Слайд 1</dc:title>
</cp:coreProperties>
</file>